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FF2-B85C-46CB-9AC0-E61ADD5A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C05-8475-484D-BBEA-74C3713A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2E4-2215-4052-9C39-95B29E0D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A76-B3D9-4033-9DBD-3E9991E0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9F2-9E02-4BE8-827C-6B7D6D74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46D-08B0-4030-B016-E90CE51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CC6-B90C-4B83-83D3-50A4B04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85D-3F9B-44EE-BEF5-80F29100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5F6-82CD-4302-A162-3D4B38D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618-EEFC-4A1C-A676-BDDC466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8D6-02B4-4256-9629-2251315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82E-15A0-47E4-AD3F-CFE0A83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565-BB7D-4E4E-BC92-65225725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1125360"/>
            <a:ext cx="8353440" cy="371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 MEJOR UN COJO</a:t>
            </a:r>
            <a:endParaRPr b="0" i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R LA SENDA RECTA</a:t>
            </a:r>
            <a:endParaRPr b="0" i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E UN CORREDOR</a:t>
            </a:r>
            <a:endParaRPr b="0" i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R ELMAL CAMINO.</a:t>
            </a:r>
            <a:endParaRPr b="0" i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86080" y="5946840"/>
            <a:ext cx="43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54:02Z</dcterms:created>
  <dc:creator>PROPIETARIO</dc:creator>
  <dc:description/>
  <dc:language>en-US</dc:language>
  <cp:lastModifiedBy>PROPIETARIO</cp:lastModifiedBy>
  <dcterms:modified xsi:type="dcterms:W3CDTF">2015-03-03T17:54:02Z</dcterms:modified>
  <cp:revision>1</cp:revision>
  <dc:subject/>
  <dc:title>Diapositiva 1</dc:title>
</cp:coreProperties>
</file>