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46F-A37B-47DC-B1E0-06474C07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FC7-FC52-4134-A559-E9F828D5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886-4A3C-4883-A86F-D4484793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966-E52B-4313-9824-EFAE4FE9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EC6-1281-4493-AF6F-0FE0E711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4F4-53F0-413E-A52E-D2F0BD27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640-DE95-4878-ACF0-C3926BE9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AA9-A162-443E-96BD-CDAFFC5E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A25-A0C7-4E8B-AB96-DA94D162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5C8-5E85-4DE4-9A4E-A8BCA3E0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B64-8E10-4859-9567-B70A155B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FBB-6AA8-4C25-90AD-CB9C9349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60BE-3DF3-4826-8950-2F901B9AF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34400" cy="721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0920" y="2962440"/>
            <a:ext cx="8497800" cy="27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mayor amor, mayor belleza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belleza del alma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s el amor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9240" y="6235560"/>
            <a:ext cx="3305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n AGUSTIN. 354-430.</a:t>
            </a:r>
            <a:endParaRPr b="0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5:15:15Z</dcterms:created>
  <dc:creator>PROPIETARIO</dc:creator>
  <dc:description/>
  <dc:language>en-US</dc:language>
  <cp:lastModifiedBy>PROPIETARIO</cp:lastModifiedBy>
  <dcterms:modified xsi:type="dcterms:W3CDTF">2015-03-03T15:15:15Z</dcterms:modified>
  <cp:revision>1</cp:revision>
  <dc:subject/>
  <dc:title>Diapositiva 1</dc:title>
</cp:coreProperties>
</file>