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CB6-9D17-4E5B-9CAC-8089BE42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9BE-AE35-4DF0-AE71-A5B1A1F2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DAA-5AC3-4EDC-9765-238CF794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713-FD03-4B20-BAE3-BA4F2C34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B0D-67FC-425B-827F-83EB27AD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4AA-5E37-4F55-AAE5-C1F74DE1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7F0-B65B-413F-970D-E7CB498B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FF0-3BD3-42F4-BAE6-7DD7B5A8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019-F80D-4CC2-B5D4-09090A6D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39A-5F1D-44B6-A0AC-C3E3C02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15D-9FBE-44F8-9C4F-1264D116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08A-2042-410E-A6F5-CA96224B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100F-55F1-4C65-978A-3A22079B3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00080"/>
            <a:ext cx="9649080" cy="721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0088600">
            <a:off x="-180720" y="1681200"/>
            <a:ext cx="8604360" cy="31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¿QUIERES TENER A DIOS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E TU PARTE?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S MUY SENCILLO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NTE TÚ DE PARTE DE DIOS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299200" y="6235560"/>
            <a:ext cx="3305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an AGUSTÍN. 354-430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11:35Z</dcterms:created>
  <dc:creator>PROPIETARIO</dc:creator>
  <dc:description/>
  <dc:language>en-US</dc:language>
  <cp:lastModifiedBy>PROPIETARIO</cp:lastModifiedBy>
  <dcterms:modified xsi:type="dcterms:W3CDTF">2015-03-04T09:11:35Z</dcterms:modified>
  <cp:revision>1</cp:revision>
  <dc:subject/>
  <dc:title>Diapositiva 1</dc:title>
</cp:coreProperties>
</file>