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B20-2B53-400E-B1D6-D08B6958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8C2-DCE1-44BC-95B0-D2194AF3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A5A-A48F-41A8-B39C-D79720A9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8B2-5BD1-431B-BAB3-7A1D8D60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AFB-8913-458A-912B-30B1222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14C-FF75-4DD8-8633-9C8CD06F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602-ED1E-4978-A8FB-1593CF81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0AE-FB0B-4405-B0F7-2779C14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BBD-9111-427E-8F9F-2C18C23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2B0-522A-408E-AA98-0F701A7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DD9-C047-4EBE-B70C-F3806EC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F53-473D-42DA-94ED-E1B67C1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E4A9-3CFF-4DB8-9B86-060BB5C7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90520" y="-11124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63400" y="4076640"/>
            <a:ext cx="78962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ólo se ama lo que se conoce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puede abrazarse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09120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44:06Z</dcterms:created>
  <dc:creator>PROPIETARIO</dc:creator>
  <dc:description/>
  <dc:language>en-US</dc:language>
  <cp:lastModifiedBy>PROPIETARIO</cp:lastModifiedBy>
  <dcterms:modified xsi:type="dcterms:W3CDTF">2015-03-04T09:44:06Z</dcterms:modified>
  <cp:revision>1</cp:revision>
  <dc:subject/>
  <dc:title>Diapositiva 1</dc:title>
</cp:coreProperties>
</file>