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AF8-269D-4A70-B8CB-F7F6DC30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659-0A12-4711-8412-AFEA8DD9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C31-7EC6-4B4B-9A4A-760D3AA1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833-2919-424E-8379-66104F80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259-5297-4303-A7B8-34252E4C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91E-AD26-403D-9316-BB7B04C0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A45-1CDA-4DDC-937C-4F24E99B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920-A28C-4901-B3D8-F85E93B9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291-CA46-47A9-B20B-64273F7E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D32-057D-4EC5-A8A3-68190554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D59-0737-4B44-A3FB-E98917A9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8E3-F7EA-4CA0-89A3-A727845D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F93F-1BB6-444E-A2EE-915BE2127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15600" cy="7211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11280" y="4168800"/>
            <a:ext cx="8064360" cy="19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IVID TODOS UNÁNIMES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 UN SOLO CORAZÓN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Y UNA SOLA ALMA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235560"/>
            <a:ext cx="3305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10:05:36Z</dcterms:created>
  <dc:creator>PROPIETARIO</dc:creator>
  <dc:description/>
  <dc:language>en-US</dc:language>
  <cp:lastModifiedBy>PROPIETARIO</cp:lastModifiedBy>
  <dcterms:modified xsi:type="dcterms:W3CDTF">2015-03-04T10:05:36Z</dcterms:modified>
  <cp:revision>1</cp:revision>
  <dc:subject/>
  <dc:title>Diapositiva 1</dc:title>
</cp:coreProperties>
</file>