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E71-118F-470C-8C95-6DB4B35C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CDC-D09C-465B-A3EA-9144F1D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A68-5E79-487F-841E-16040977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C39-8EC5-459E-91AF-604E1C56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50A-557F-4C87-A608-CF0DFBE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626-0D11-47F4-9162-49D913C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5E2-6343-40F5-B084-E1AACEF9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EB0-E2C2-4930-8EFC-E06AB2E1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EC5-3E90-419F-AF4D-2791D8C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E2D-84B8-459D-A9F8-400488E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F66-0ABC-4B3F-B048-AC881A1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DA6-0B23-4950-958B-5128546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1F48-1CC0-4E49-B476-36A842E88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00080"/>
            <a:ext cx="9734760" cy="721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2997360"/>
            <a:ext cx="799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mina por el hombre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llegarás a Dios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162840"/>
            <a:ext cx="3305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32:41Z</dcterms:created>
  <dc:creator>PROPIETARIO</dc:creator>
  <dc:description/>
  <dc:language>en-US</dc:language>
  <cp:lastModifiedBy>PROPIETARIO</cp:lastModifiedBy>
  <dcterms:modified xsi:type="dcterms:W3CDTF">2015-03-03T15:32:41Z</dcterms:modified>
  <cp:revision>1</cp:revision>
  <dc:subject/>
  <dc:title>Diapositiva 1</dc:title>
</cp:coreProperties>
</file>