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87D-E534-421B-A277-6931E246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6E6-147A-4B96-B56E-3BA0FBE4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153-03EC-46BA-92B1-8570DF99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CAF-011B-4789-97C9-B98034C5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F3A-C9A5-47F8-8210-B9AF3E21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154-C7C4-4930-AC19-2CBFCB5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180-2CAB-464E-9C5D-7530453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C2B-DBC6-4D14-B7D6-02978B1B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D08-1C87-4018-AAB6-9402815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EF4-EE83-4A1D-B99C-2B12DE2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64A-75AA-4627-9CCD-B4C64BE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645-CC91-4EDF-A4F6-A31621D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8C4-823B-4711-B018-D4D4AB1AD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691920" cy="722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627280" y="3451320"/>
            <a:ext cx="437184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BELLEZA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 ALMA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 EL AMOR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6235560"/>
            <a:ext cx="3305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48:46Z</dcterms:created>
  <dc:creator>PROPIETARIO</dc:creator>
  <dc:description/>
  <dc:language>en-US</dc:language>
  <cp:lastModifiedBy>PROPIETARIO</cp:lastModifiedBy>
  <dcterms:modified xsi:type="dcterms:W3CDTF">2015-03-04T09:48:46Z</dcterms:modified>
  <cp:revision>1</cp:revision>
  <dc:subject/>
  <dc:title>Diapositiva 1</dc:title>
</cp:coreProperties>
</file>