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ACE-CC9E-4041-8ECC-8DE73BAE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951-AB7E-4572-8487-BA17847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F01-73EF-4FFC-A8B2-C9A97ADA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747-E8D4-44D3-B48F-C42B911A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443-7555-455E-8D55-B372AE4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C41-9A3A-4449-A237-D97583B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3D5-0D0F-46D3-89C2-DE11933B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B8B-E0C6-405B-9CBE-E49C646E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89F-B598-4DBB-845D-04934657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25D-2B9E-4C3F-A03B-9089F0B9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801-6B23-40D5-9028-354C626D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608-6B30-442D-BB0A-92A5954B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92C1-7EDC-42D6-AA03-DBC09909C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612360" cy="724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327400">
            <a:off x="208080" y="1898640"/>
            <a:ext cx="8516880" cy="34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OMBRE SOY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NTRE HOMBRES VIVO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 NADA DE LO HUMANO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 ES AJENO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09840" y="6162840"/>
            <a:ext cx="43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8:01:48Z</dcterms:created>
  <dc:creator>PROPIETARIO</dc:creator>
  <dc:description/>
  <dc:language>en-US</dc:language>
  <cp:lastModifiedBy>PROPIETARIO</cp:lastModifiedBy>
  <dcterms:modified xsi:type="dcterms:W3CDTF">2015-03-03T18:01:48Z</dcterms:modified>
  <cp:revision>1</cp:revision>
  <dc:subject/>
  <dc:title>Diapositiva 1</dc:title>
</cp:coreProperties>
</file>