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2F6-8947-40E2-89DB-0F508BC9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ED9-40FF-45B7-9C51-0DEE596C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679-8666-4068-B7BA-A78B1B34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887-1684-441C-AD18-90F59A6D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43E-D624-481B-9CAC-060570D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C4F-63A5-4A3B-8AE1-21FE3772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9A1-51D7-42D4-86D5-D6F1D35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D4C-23EC-4915-BADC-68111ED7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836-62C3-4120-89E9-E9AF7E6B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6C2-BBF4-411D-9E9A-FB5FA90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BB1-5FFD-4DF6-86E8-58D54929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EC3-CA55-47FB-AF68-E244E9C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E7C-293A-46D4-937D-0C2DABE6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63120" cy="724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3933720"/>
            <a:ext cx="86421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 HÁBITO,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 NO SE RESISTE,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 POCO TIEMPO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 VUELVE UNA NECESIDAD.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307200"/>
            <a:ext cx="3305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54:02Z</dcterms:created>
  <dc:creator>PROPIETARIO</dc:creator>
  <dc:description/>
  <dc:language>en-US</dc:language>
  <cp:lastModifiedBy>PROPIETARIO</cp:lastModifiedBy>
  <dcterms:modified xsi:type="dcterms:W3CDTF">2015-03-03T15:54:02Z</dcterms:modified>
  <cp:revision>1</cp:revision>
  <dc:subject/>
  <dc:title>Diapositiva 1</dc:title>
</cp:coreProperties>
</file>