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C9D-43C0-4658-89CE-43927578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E16-AD22-49EC-B11B-B9FEB67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11C-768A-4C56-B0BC-9F01D51C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3BD-BC22-4DA2-8B75-8B531A1F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516-8F97-46A2-AF3F-604A03D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256-F536-4AB8-9921-FABAF97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F5C-F271-438B-9134-05461F48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D08-E59B-42AA-8A07-5C062CB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167-9751-4B91-9633-04141C2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00E-87AA-49C9-92E9-FA5EAC2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AE8-E468-4DD6-AE67-C520623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8BB-2604-42DF-A565-DA3E8326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B0B-0B2C-42F6-8180-55949CB2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6200"/>
            <a:ext cx="9651960" cy="720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09800" y="1773360"/>
            <a:ext cx="71244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te es el camino: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mina por la humildad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a llegar a la eternidad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0280" y="6307200"/>
            <a:ext cx="394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0:22:34Z</dcterms:created>
  <dc:creator>JSHV</dc:creator>
  <dc:description/>
  <dc:language>en-US</dc:language>
  <cp:lastModifiedBy>JSHV</cp:lastModifiedBy>
  <dcterms:modified xsi:type="dcterms:W3CDTF">2013-04-29T10:22:34Z</dcterms:modified>
  <cp:revision>1</cp:revision>
  <dc:subject/>
  <dc:title>Diapositiva 1</dc:title>
</cp:coreProperties>
</file>