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108-7554-45C7-B19C-0C816C35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F8B-B3C0-4569-ABDB-E0C7B78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369-323E-4BB8-9524-744E293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C0B-D4A3-4C44-802E-8AAC94A2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40D-15D0-4078-A898-536BFCD2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CDA-6C29-49A7-ADE0-3571BFBA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473-FE94-48B8-B4A4-AF3ED56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69C-F00C-4618-9657-60631F0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E39-298D-4A55-AB85-139FF04C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5C3-112C-4D53-9DC2-44895C5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827-7F34-4D9B-8CA6-4B5DC96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2A-EC58-4D50-B986-37C41C4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89BD-31F3-4370-A133-30FBE21B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0" y="-189000"/>
            <a:ext cx="9410760" cy="721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6360" y="3174840"/>
            <a:ext cx="8964360" cy="35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En la medid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que crece en 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la bonda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crece también en 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la belleza”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San Agus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22:33Z</dcterms:created>
  <dc:creator>JSHV</dc:creator>
  <dc:description/>
  <dc:language>en-US</dc:language>
  <cp:lastModifiedBy>JSHV</cp:lastModifiedBy>
  <dcterms:modified xsi:type="dcterms:W3CDTF">2013-04-14T11:21:55Z</dcterms:modified>
  <cp:revision>5</cp:revision>
  <dc:subject/>
  <dc:title>Diapositiva 1</dc:title>
</cp:coreProperties>
</file>