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95-41EA-4278-8A81-F3308053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874-3513-472A-B488-4888C42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DFF-5723-467A-AB4B-8D57E608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17F-1FDF-403B-8D6C-3D39EBDC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AED-0A36-48A6-8FC8-478BDCB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F78-6575-47A2-804B-5D51265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712-38A8-4CA0-9C3B-EA9FA1F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E6E-2149-4866-BE31-274549D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EBC-24BC-47C0-B9E9-17455C0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9AE-EFB0-41D8-ADC7-B8A8FD7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D0A-E40F-45C1-B331-0E63245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0DD-7D12-4732-B4D5-4EE8B04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18B-7712-43B1-AD35-F7AC27C8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407520" cy="721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47880" y="549360"/>
            <a:ext cx="7248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DO HOMBRE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UN BUSCADOR DE AMOR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7680" y="5229360"/>
            <a:ext cx="684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SCA SÓLO LO QUE AMA.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19240" y="616284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26:22Z</dcterms:created>
  <dc:creator>PROPIETARIO</dc:creator>
  <dc:description/>
  <dc:language>en-US</dc:language>
  <cp:lastModifiedBy>PROPIETARIO</cp:lastModifiedBy>
  <dcterms:modified xsi:type="dcterms:W3CDTF">2015-03-04T09:26:22Z</dcterms:modified>
  <cp:revision>1</cp:revision>
  <dc:subject/>
  <dc:title>Diapositiva 1</dc:title>
</cp:coreProperties>
</file>