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D377C-150F-4954-B110-8528211D5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86B3F-AA2E-4037-8818-E64BE0529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93179-1492-4D5B-8AE7-CE7AB3E0A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E8F06-BB2E-4805-8223-03F2AA48A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6D89D-6492-47CA-97C7-79A8469CD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C028C-CA9F-43D2-AF3A-5F04AA8F2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3D8A9-3BC7-4EB9-A3F0-F81C015C2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18B7C-CD64-490B-929D-FE9C0A420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5BF00-C4BE-45D1-8E47-6AD585879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E3472-7906-4C8D-BF14-FD957F8D4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ECAA0-8539-4C53-8B36-37F2E3934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ECCA5-93A9-4436-B04C-6F5DBA49E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793D7-FB08-4A29-BC88-4A2079DFE3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-324000" y="-171360"/>
            <a:ext cx="9660240" cy="72277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2484360" y="260280"/>
            <a:ext cx="626436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La búsqueda de Dios</a:t>
            </a:r>
            <a:endParaRPr b="0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es la búsqueda de la felicidad.</a:t>
            </a:r>
            <a:endParaRPr b="0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Y el encuentro con Dios</a:t>
            </a:r>
            <a:endParaRPr b="0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es la felicidad misma.</a:t>
            </a:r>
            <a:endParaRPr b="0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3992400" y="6019920"/>
            <a:ext cx="4324680" cy="36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AGUSTÍN de HIPONA. 354-430.</a:t>
            </a:r>
            <a:endParaRPr b="0" i="1" lang="en-US" sz="20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03T18:10:11Z</dcterms:created>
  <dc:creator>PROPIETARIO</dc:creator>
  <dc:description/>
  <dc:language>en-US</dc:language>
  <cp:lastModifiedBy>PROPIETARIO</cp:lastModifiedBy>
  <dcterms:modified xsi:type="dcterms:W3CDTF">2015-03-03T18:10:11Z</dcterms:modified>
  <cp:revision>1</cp:revision>
  <dc:subject/>
  <dc:title>Diapositiva 1</dc:title>
</cp:coreProperties>
</file>