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4C7B-71E5-4B1E-B322-D83A25595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A674-5F3D-4B33-98C6-56B0A4CB7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8FE0-91E5-4754-9822-B4EFF7806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81A0-46E9-4188-BEED-284EAB7E6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75CF-CF85-419E-A485-85415CE6A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470C-C978-4DC1-A03B-8D1FD652C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773A-0B09-4826-B9CA-1E3AEE9EC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6E12-050E-4D12-BB44-44D447A6F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C684-AB73-413F-B63E-FBFC72BBE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7A4E-23CD-4AEC-99E6-C7340237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6777-4DFB-41F2-B485-780D78919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5A33-A598-439E-9AAD-C5ADE956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8BA95-7E8D-4C60-A399-9D716A6CBC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252360" y="-171360"/>
            <a:ext cx="9651960" cy="7207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468360" y="2430360"/>
            <a:ext cx="8064360" cy="359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La amistad es un alma</a:t>
            </a:r>
            <a:endParaRPr b="1" i="1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que habita en dos cuerpos:</a:t>
            </a:r>
            <a:endParaRPr b="1" i="1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un corazón</a:t>
            </a:r>
            <a:endParaRPr b="1" i="1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que habita en dos almas.</a:t>
            </a:r>
            <a:endParaRPr b="1" i="1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838600" y="6162840"/>
            <a:ext cx="346680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ristóteles. 384-322 a C.</a:t>
            </a:r>
            <a:endParaRPr b="1" i="1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8T10:48:13Z</dcterms:created>
  <dc:creator>JSHV</dc:creator>
  <dc:description/>
  <dc:language>en-US</dc:language>
  <cp:lastModifiedBy>JSHV</cp:lastModifiedBy>
  <dcterms:modified xsi:type="dcterms:W3CDTF">2013-04-28T10:48:13Z</dcterms:modified>
  <cp:revision>1</cp:revision>
  <dc:subject/>
  <dc:title>Diapositiva 1</dc:title>
</cp:coreProperties>
</file>