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088-AE93-4256-BF5A-7DC275A6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DC1-05AB-4A00-B138-3F05DF8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B92-CBFA-4BD5-BB25-842B1999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09-34B3-43AF-A4A8-16C64186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6C4-8D84-408D-AFB4-24CE1A7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0F4-7DB4-431E-B1DD-046C0F4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D06-AC2D-463C-8D31-D052F759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C28-1FF2-416A-A2CA-3B67874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B3C-7097-4982-9367-8A783EE2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F6D-EE6E-43F2-9221-7D705BA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16-0E83-4BD1-922D-30E6306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8D8-0FE4-47F6-BE70-D67BA4A7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520-5CDF-4B7C-99B7-3A569FB4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56800" cy="73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1844640"/>
            <a:ext cx="784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envidia es..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odio de la felicidad ajena;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polilla del alma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9840" y="5730840"/>
            <a:ext cx="4324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15:05Z</dcterms:created>
  <dc:creator>PROPIETARIO</dc:creator>
  <dc:description/>
  <dc:language>en-US</dc:language>
  <cp:lastModifiedBy>PROPIETARIO</cp:lastModifiedBy>
  <dcterms:modified xsi:type="dcterms:W3CDTF">2015-03-03T18:15:05Z</dcterms:modified>
  <cp:revision>1</cp:revision>
  <dc:subject/>
  <dc:title>Diapositiva 1</dc:title>
</cp:coreProperties>
</file>