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3DB0-0130-45BF-8492-0666763B9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762F-60D0-496A-A745-B1C50C29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8DEF-E7CF-434E-BC5A-E6C3A0787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B7C7-34B9-4889-86E8-040CABFE6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62D7-F914-47CF-924F-DE575C711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7930-E23C-4599-AC87-2B8A3F654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B779-A522-4C89-933C-BF774514A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9CE8-0BEB-403F-B9F0-B35D87DF1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4F93-B4DF-46B3-A54C-F6FFBDB27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176E-405C-4E8E-8F1C-9754C8CD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E663-0C46-47CF-9456-CB9C2FD8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C6D8-DD3F-4602-A3AA-15164C0B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26C50-9808-4D5D-8214-21053C26A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181080" y="-171360"/>
            <a:ext cx="9526680" cy="7230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539640" y="404640"/>
            <a:ext cx="6696360" cy="154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l mejor elogio del AMOR 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s éste: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IOS ES AMOR.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19200" y="6162840"/>
            <a:ext cx="330516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San AGUSTÍN. 354-430.</a:t>
            </a:r>
            <a:endParaRPr b="0" i="1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6:00:32Z</dcterms:created>
  <dc:creator>PROPIETARIO</dc:creator>
  <dc:description/>
  <dc:language>en-US</dc:language>
  <cp:lastModifiedBy>PROPIETARIO</cp:lastModifiedBy>
  <dcterms:modified xsi:type="dcterms:W3CDTF">2015-03-03T16:00:32Z</dcterms:modified>
  <cp:revision>1</cp:revision>
  <dc:subject/>
  <dc:title>Diapositiva 1</dc:title>
</cp:coreProperties>
</file>