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0C8D-5D79-4BEC-9086-3037AE96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0A5-22A6-499E-B6D2-83AFBA9C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DA8C-6CC4-439F-AA23-33C3BD14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8F4-4842-4361-A66F-2EA75819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5EC-64B4-4A57-816D-B0D9375F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C12-7B36-4D4F-A4E1-5CFB4D98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BE9-1DD2-4031-916E-E7DD5E48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AFE-E7EB-404D-9E05-4A2794EE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74C-CF10-4085-8395-FAF57969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690-8481-4A19-A4FD-AEE2F6E9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25A-1037-4277-AA53-674AD9C5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2B1-B461-47E5-B1A3-6A9957B2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44C6-DF55-47E3-B884-CC79A8CAF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80400" cy="7215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62040" y="836640"/>
            <a:ext cx="78199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IOS ES LA PATRIA DEL ALMA.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9240" y="6307200"/>
            <a:ext cx="33055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5:44:16Z</dcterms:created>
  <dc:creator>PROPIETARIO</dc:creator>
  <dc:description/>
  <dc:language>en-US</dc:language>
  <cp:lastModifiedBy>PROPIETARIO</cp:lastModifiedBy>
  <dcterms:modified xsi:type="dcterms:W3CDTF">2015-03-03T15:44:16Z</dcterms:modified>
  <cp:revision>1</cp:revision>
  <dc:subject/>
  <dc:title>Diapositiva 1</dc:title>
</cp:coreProperties>
</file>