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78A-42A8-4CE0-BA35-2F15FC98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3C9-C2FC-48FA-B40B-54904F0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E96-BF94-4EFE-A42F-6EC887D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E29-697A-4CFF-949A-888E2314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910-35FF-4F5F-ADBE-D02AD6F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A35-5BE4-421B-9141-E4A2C7F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987-2B31-4F0A-AA48-C46DC4F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3AD-0E38-4C57-BFD5-B20524D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DE8-2AC6-472F-8266-42F89AB9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6BC-7107-4889-856C-0A86FD6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1AD-9F24-4EF6-91BA-DD99CBA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5A8-8107-4CDD-BD18-280F87E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EA1-F9CE-4128-8969-40ED2CC1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72880" y="-100080"/>
            <a:ext cx="9669240" cy="722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620640"/>
            <a:ext cx="83534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la vida perenne 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fuera patrimonio del hombre,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n vano buscaría la bienandanza: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n inmortalidad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existe ventura.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43480" y="60930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Agustín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29:32Z</dcterms:created>
  <dc:creator>JSHV</dc:creator>
  <dc:description/>
  <dc:language>en-US</dc:language>
  <cp:lastModifiedBy>JSHV</cp:lastModifiedBy>
  <dcterms:modified xsi:type="dcterms:W3CDTF">2013-01-04T12:29:32Z</dcterms:modified>
  <cp:revision>1</cp:revision>
  <dc:subject/>
  <dc:title>Diapositiva 1</dc:title>
</cp:coreProperties>
</file>