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A12-92D4-4B5F-8D0A-AD1774D0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21A-AABF-474C-A01A-F75D7F03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9B8-5535-49BB-97F8-07A7458E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850-539B-4477-BDD0-768F0928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A18-3CC5-42C4-AA8D-22C8F029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A78-6764-493F-806E-2EF7650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8E3-DA58-480B-A14D-416C2DC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9ED-362D-4343-8622-D4544B5F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9FC-C505-4747-ADD9-3B8C65EB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D72-84D7-4F94-BB8B-F1AD297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9C1-051D-4F86-A188-C945FC7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0E6-C34F-4FC4-B158-A268713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2D05-1C69-4325-9AE1-FED0CF5A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-469800"/>
            <a:ext cx="8351640" cy="771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risto el Señor,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 el hecho de nacer y de morir,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ía la mirada puesta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 la resurrección;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 ella estableció los límite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 nuestra fe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164360" y="6308640"/>
            <a:ext cx="16956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n Agustín</a:t>
            </a:r>
            <a:endParaRPr b="1" i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8:57:10Z</dcterms:created>
  <dc:creator>JSHV</dc:creator>
  <dc:description/>
  <dc:language>en-US</dc:language>
  <cp:lastModifiedBy>JSHV</cp:lastModifiedBy>
  <dcterms:modified xsi:type="dcterms:W3CDTF">2013-02-27T19:03:26Z</dcterms:modified>
  <cp:revision>2</cp:revision>
  <dc:subject/>
  <dc:title>Diapositiva 1</dc:title>
</cp:coreProperties>
</file>