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92D-8FAE-4AE3-A4E3-9735BF33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6C9-A3B0-407B-B72B-9147F6D7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58C-60E3-4932-9B10-DA3820C2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2EC-6F37-4FAC-9834-808336A1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D5A-C4E1-4FA6-BAA9-7AE9ECB9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BB0-9D0F-4C93-A69D-A80D1E81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C01-DB82-468A-9983-54C707FB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A89-CF1D-4474-9137-386F2113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3EC-DFC9-470E-947C-BC617B4C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EEF-378E-477E-89CD-597C8E3C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0ED-DF70-440B-90E8-A3D6FB65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CCF-EBB3-4138-984B-99B29C61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BDD9-ECDB-4605-BE7C-9A4D4B7AA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63120" cy="724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476280"/>
            <a:ext cx="8208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 orar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y que evitar dos cosas: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dir lo que no debemos y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dirlo a quien no debemos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235560"/>
            <a:ext cx="3305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ÍN. 354-430.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5:20:29Z</dcterms:created>
  <dc:creator>PROPIETARIO</dc:creator>
  <dc:description/>
  <dc:language>en-US</dc:language>
  <cp:lastModifiedBy>PROPIETARIO</cp:lastModifiedBy>
  <dcterms:modified xsi:type="dcterms:W3CDTF">2015-03-03T15:20:29Z</dcterms:modified>
  <cp:revision>1</cp:revision>
  <dc:subject/>
  <dc:title>Diapositiva 1</dc:title>
</cp:coreProperties>
</file>