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32F-F82F-49DB-AB96-59F6F84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EB4-0C17-4660-9676-C02F6B54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925-5627-4237-8911-F9993FB0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389-84FE-4D9E-A4E2-3EB9A8DB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FA6-6621-4661-9A57-39A75D1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B85-68B2-44F6-9028-8DFF6F1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441-A75B-45F9-831B-431D7D54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633-21A9-49A5-9FFE-AC48EA05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745-5FC5-490C-8E83-75D0FD5F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56D-8295-4F3D-BE4E-53AEFD9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CD3-46D2-4E1E-9DBC-795AD54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54E-9985-45A4-83DF-1EA55398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10E0-FD9A-4138-9782-52CC91A0E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918720" cy="73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93760" y="333360"/>
            <a:ext cx="8599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una vez por todas te doy un buen precepto:</a:t>
            </a:r>
            <a:endParaRPr b="1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90560" y="1341360"/>
            <a:ext cx="7562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A Y HAZ LO QUE QUIERAS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33440" y="2435400"/>
            <a:ext cx="8459640" cy="37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callas, calla por amor;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gritas, grita por amor;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corriges, corrige por amor;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perdonas, perdona por amor.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n dentro la raíz del amor,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la cual no puede brotar sino el bien.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4880" y="6451560"/>
            <a:ext cx="59342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gustín de Hipona. Carta de San Juan 7,8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7:32:50Z</dcterms:created>
  <dc:creator>JSHV</dc:creator>
  <dc:description/>
  <dc:language>en-US</dc:language>
  <cp:lastModifiedBy>JSHV</cp:lastModifiedBy>
  <dcterms:modified xsi:type="dcterms:W3CDTF">2013-04-01T17:32:50Z</dcterms:modified>
  <cp:revision>1</cp:revision>
  <dc:subject/>
  <dc:title>Diapositiva 1</dc:title>
</cp:coreProperties>
</file>