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228F-403E-4419-B522-F6169EB0D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A778-EBF9-48CE-92DB-805F1E4C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AF9B-1E34-474D-B0AA-998E50636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5B13-FE1C-443D-AD57-3BD1CC3C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1F4A-6833-4FCD-8123-86AAD203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64E6-FE7D-4F5F-BAAE-C504DB79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3C59-7745-4BF6-9BED-65AAF4DC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0F3B-529A-47BA-88D7-50AD5D3F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09FF-0834-4176-923A-99F42666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E478-9AB2-4B07-AD18-7E23A1F0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9B5C-8D1B-46D0-8DCC-67BA0CB9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F37D-4DED-4EFA-9FDE-C945B0B8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9889-9B0A-40ED-9246-14A65EA42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63120" cy="7247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11280" y="2062080"/>
            <a:ext cx="7819920" cy="31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o te desparrames.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céntrate en tu intimidad.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 verdad reside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n el hombre interior.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919240" y="6091200"/>
            <a:ext cx="330552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an AGUSTÍN. 354-430.</a:t>
            </a:r>
            <a:endParaRPr b="0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4T08:55:09Z</dcterms:created>
  <dc:creator>PROPIETARIO</dc:creator>
  <dc:description/>
  <dc:language>en-US</dc:language>
  <cp:lastModifiedBy>PROPIETARIO</cp:lastModifiedBy>
  <dcterms:modified xsi:type="dcterms:W3CDTF">2015-03-04T08:55:09Z</dcterms:modified>
  <cp:revision>1</cp:revision>
  <dc:subject/>
  <dc:title>Diapositiva 1</dc:title>
</cp:coreProperties>
</file>