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7EF-1AA2-4A22-81D2-C90197A7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500-1203-45EA-B626-04BFDFC8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55C-DF30-4539-9D94-23D32FC4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EBE-408A-461A-A895-817762E2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E89-672D-4C95-868F-614E872A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833-0E52-4CD2-A8AF-D0DB0351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7C5-3FD2-4851-82A1-E72867D5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4DD-254E-4288-A365-6085C40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FDE-46A2-44FB-9944-B236F30D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949-3478-40EC-9F8A-3F48051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A36-D84F-44D7-BF8B-DF45482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91E-19EC-4868-AC39-C1E1EFD7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A46C-9C20-4601-AACE-E28F59764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34320" cy="722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9640" y="1773360"/>
            <a:ext cx="79930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 es más feliz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ien más tiene,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no el que menos necesita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86080" y="61628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7:50:20Z</dcterms:created>
  <dc:creator>JSHV</dc:creator>
  <dc:description/>
  <dc:language>en-US</dc:language>
  <cp:lastModifiedBy>JSHV</cp:lastModifiedBy>
  <dcterms:modified xsi:type="dcterms:W3CDTF">2013-04-06T07:50:20Z</dcterms:modified>
  <cp:revision>1</cp:revision>
  <dc:subject/>
  <dc:title>Diapositiva 1</dc:title>
</cp:coreProperties>
</file>