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8411-71FE-446F-AAA1-96FF58D4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DB28-634F-4C0E-A099-B38284BE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F7C3-9B85-4C9C-B26D-364E56AE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A9B4-392F-4417-A01E-424B5B6C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BB38-DBB5-4B37-863F-59A33083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C410-D55E-4728-A6C6-D9029924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8967-918F-4D7E-8095-DBC4C394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E04A-C03A-40AD-B1CE-DEC8F114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5E5B-5A29-4FE3-91E3-F5BBB62E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1A88-FF56-4A85-A8F9-B4B95BBD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E32D-1134-47E4-AA2C-EE74AE4F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A25F-3C94-4789-9C23-D10F609F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98D2-8CF2-499C-9986-931606F5B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634320" cy="722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95280" y="2997360"/>
            <a:ext cx="833436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a Ciencia conoce cosas verdaderas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ientras que la Sabidurí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s conocimiento de la verda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y su fin es la contemplación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14600" y="6307200"/>
            <a:ext cx="41148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gustín de Hipona. 354 - 430.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7:38:00Z</dcterms:created>
  <dc:creator>JSHV</dc:creator>
  <dc:description/>
  <dc:language>en-US</dc:language>
  <cp:lastModifiedBy>JSHV</cp:lastModifiedBy>
  <dcterms:modified xsi:type="dcterms:W3CDTF">2013-06-08T08:03:12Z</dcterms:modified>
  <cp:revision>3</cp:revision>
  <dc:subject/>
  <dc:title>Diapositiva 1</dc:title>
</cp:coreProperties>
</file>