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BA0-0BC0-4528-BC14-A3079490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4C6-82CA-4F1E-BCB7-35DF9115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922-4A13-42DE-AB48-52E1F303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D3B-BF69-439B-A490-752B0370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BA8-CB1C-44A5-91C3-33185E49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B72-7AF3-4F38-8625-8A7E3220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572-FDEA-4B26-9CB7-CA40CDC0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2E8-29DD-4777-BA93-37A7D14A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68F-978F-44C1-89A9-59C912A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B13-D015-4EBA-AC08-6F750926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A05-445B-45CE-8871-99F6C91B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F9A-E011-4FC9-86EB-979CFB14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F488-27D4-4CC9-9035-7B26AAD24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548640" cy="7415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0398800">
            <a:off x="676440" y="3979440"/>
            <a:ext cx="8135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A VERDA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S PATRIMONIO DE TODOS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76400" y="6308640"/>
            <a:ext cx="33912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10:01:13Z</dcterms:created>
  <dc:creator>PROPIETARIO</dc:creator>
  <dc:description/>
  <dc:language>en-US</dc:language>
  <cp:lastModifiedBy>PROPIETARIO</cp:lastModifiedBy>
  <dcterms:modified xsi:type="dcterms:W3CDTF">2015-03-04T10:01:13Z</dcterms:modified>
  <cp:revision>1</cp:revision>
  <dc:subject/>
  <dc:title>Diapositiva 1</dc:title>
</cp:coreProperties>
</file>