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D69-C4D7-44F6-B5FC-BBD464F6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58F-B2F8-4867-86AA-77549387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B5B-0D9E-4CDD-96AB-A0326639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1C4-68BA-41B8-B946-B38015C8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B7D-8A2D-4616-8BF3-C28CD1D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F78-3CF2-41F6-A2F7-9493EE8A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609-25C4-4C0E-B8D5-00E25D1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651-EC31-4D44-8095-2BD47D4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BA3-B0B9-48E1-B087-03291A9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DC5-D2F3-4CA6-B48E-00AB7F8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E57-B206-4140-B181-C7FFB95E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29D-1354-4D13-B686-97E48BEE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E729-2E9C-45A9-86EC-CAE7B009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15600" cy="721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55640" y="1630440"/>
            <a:ext cx="756144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A BIEN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EN VIVE BIEN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VE BIEN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EN ORA BIEN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573084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02:37Z</dcterms:created>
  <dc:creator>PROPIETARIO</dc:creator>
  <dc:description/>
  <dc:language>en-US</dc:language>
  <cp:lastModifiedBy>PROPIETARIO</cp:lastModifiedBy>
  <dcterms:modified xsi:type="dcterms:W3CDTF">2015-03-04T09:02:37Z</dcterms:modified>
  <cp:revision>1</cp:revision>
  <dc:subject/>
  <dc:title>Diapositiva 1</dc:title>
</cp:coreProperties>
</file>