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A67-940C-48D3-8348-7FCFF9DF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E01-DEE9-4E20-8861-318BBD0F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A76-8288-4299-A2E7-438225FA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3FA-374E-4BBD-BAD3-EA9F4449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180-412F-484C-9A98-BDB67624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706-80AD-41E1-8286-50C6E23E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808-7EC6-4F7A-8876-DF183125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9F3-2A5F-47FE-936F-1CA76AA2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B82-B1D5-4A94-BE91-A1DD809B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317-73FB-4EED-A9A6-5CC4D715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C4B-90EC-45D9-9664-7B67FD98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7FC-E0BD-4038-9B5B-844C5BEC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8773-4480-4E97-BEFA-61CE3A93A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821880" cy="721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50920" y="3068640"/>
            <a:ext cx="8424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E ES CREER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O QUE NO SE VE;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 LA RECOMPENSA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S VER LO QUE UNO CREE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9240" y="6307200"/>
            <a:ext cx="33055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58:06Z</dcterms:created>
  <dc:creator>PROPIETARIO</dc:creator>
  <dc:description/>
  <dc:language>en-US</dc:language>
  <cp:lastModifiedBy>PROPIETARIO</cp:lastModifiedBy>
  <dcterms:modified xsi:type="dcterms:W3CDTF">2015-03-03T17:58:06Z</dcterms:modified>
  <cp:revision>1</cp:revision>
  <dc:subject/>
  <dc:title>Diapositiva 1</dc:title>
</cp:coreProperties>
</file>