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0B2-E2BA-4715-B765-D65999EA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622-3894-48F0-91E2-2A408467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4E5-0AFF-4CB8-8BF7-555C86F1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283-DB03-48AB-8B02-D3A7C29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34F-AA71-48C1-9B5B-68E06CAE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86B-26A9-4F16-9385-51050C2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847-CDDD-49B5-9980-EEFF99AE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46A-E223-4D0C-83CD-CA9CFED3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660-19B6-4BD4-80E3-E28810A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B9A-77B8-4C61-8BDD-67E8470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7CE-3C75-4BD0-A890-B0369241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1C2-15D6-429B-989D-B036861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DFB-2012-42BF-A73E-1A3668B6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12280" cy="721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2924280"/>
            <a:ext cx="7848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CARISTÍA: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cramento de piedad,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gno de unidad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 vínculo de caridad.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0280" y="6380280"/>
            <a:ext cx="394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1:38:53Z</dcterms:created>
  <dc:creator>JSHV</dc:creator>
  <dc:description/>
  <dc:language>en-US</dc:language>
  <cp:lastModifiedBy>JSHV</cp:lastModifiedBy>
  <dcterms:modified xsi:type="dcterms:W3CDTF">2014-02-02T19:16:32Z</dcterms:modified>
  <cp:revision>2</cp:revision>
  <dc:subject/>
  <dc:title>Diapositiva 1</dc:title>
</cp:coreProperties>
</file>