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0365-B399-4C8C-BE22-07C87772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CAA-330F-4F02-9436-E3B8A1AB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F1AE-C90C-4823-B586-CB730604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7FF-D8E0-4210-97F8-399F2DA8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C1C-30D7-4A44-BD9C-4FE8AF43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493-7FA2-4A16-BCF8-B9D7229B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5ED8-E3E5-405B-BA89-B9D75780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193-ED9C-4B8C-8E23-D9B3F5FE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E94B-5EC7-47C0-92EB-4D841F48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2C6-2D5D-40CE-B82F-6A4CD75D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2CD-A888-493F-A968-C43C2511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173-8148-49F6-A074-E2CEDDB4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D062-008D-4BE9-BF36-877230167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15600" cy="7212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755640" y="1413000"/>
            <a:ext cx="74167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 la vida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 todo tiempo y lugar,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n amigos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 búscalos.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86080" y="6091200"/>
            <a:ext cx="43718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GUSTÍN DE HIPONA. 354-430.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49:15Z</dcterms:created>
  <dc:creator>PROPIETARIO</dc:creator>
  <dc:description/>
  <dc:language>en-US</dc:language>
  <cp:lastModifiedBy>PROPIETARIO</cp:lastModifiedBy>
  <dcterms:modified xsi:type="dcterms:W3CDTF">2015-03-03T17:49:15Z</dcterms:modified>
  <cp:revision>1</cp:revision>
  <dc:subject/>
  <dc:title>Diapositiva 1</dc:title>
</cp:coreProperties>
</file>