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82C-F3F8-4C62-8B66-CC28D9BB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42F-1D70-4E49-B273-AEB48CBB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0B3-129C-4D9B-8A60-33201468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82E-3010-4890-935C-940D8687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034-A555-4AB4-9721-4F90F48D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7B6-E456-4569-86D6-501A4543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FD9-9763-4763-A535-959DA241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493-A7D2-4AA0-87D9-3BDEFDA4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E85-15F9-4DDF-A793-B26BAC20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403-91BC-4E09-80F5-3C9F3F03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C26-5EC4-462E-8326-1A0575BC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C11-B9D4-48D9-8545-10067D44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284F-E6BE-4846-8DE6-70D0081FF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1120" y="-111240"/>
            <a:ext cx="960912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38120" y="4038480"/>
            <a:ext cx="8267760" cy="22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INTERIORIDAD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 el recogimiento de uno mismo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 sí mismo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86080" y="6451560"/>
            <a:ext cx="25718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16:49:43Z</dcterms:created>
  <dc:creator>JSHV</dc:creator>
  <dc:description/>
  <dc:language>en-US</dc:language>
  <cp:lastModifiedBy>JSHV</cp:lastModifiedBy>
  <dcterms:modified xsi:type="dcterms:W3CDTF">2013-04-13T16:49:43Z</dcterms:modified>
  <cp:revision>1</cp:revision>
  <dc:subject/>
  <dc:title>Diapositiva 1</dc:title>
</cp:coreProperties>
</file>