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1E8-3423-4A75-A222-A7AE15D0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A17-DE8C-49AF-956E-13986718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6C9-2B4C-4CB7-96F0-D8E262F0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F62-013F-442D-8015-62125CC1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03E-8E30-436A-9953-36014BF5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415-E77B-427A-AD2E-2748F9C1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F74-13B5-4416-A2C3-75B1897A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017-45A0-4DA1-A7A7-49AAD326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733-7B0C-491B-B212-86EF879F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5D8-2660-446E-B35A-CB15E4A2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3E0-4B25-4E6E-8276-D1212BBB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BDA-F9A3-40E0-986D-C901D95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23B0-9708-4035-BF1C-A88C0BE78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1280" y="3933720"/>
            <a:ext cx="7777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reconocimiento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 la propia ignoranci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 la primera prueb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 inteligencia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920" y="333360"/>
            <a:ext cx="3038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21:24:39Z</dcterms:created>
  <dc:creator>JSHV</dc:creator>
  <dc:description/>
  <dc:language>en-US</dc:language>
  <cp:lastModifiedBy>JSHV</cp:lastModifiedBy>
  <dcterms:modified xsi:type="dcterms:W3CDTF">2013-03-27T21:24:39Z</dcterms:modified>
  <cp:revision>1</cp:revision>
  <dc:subject/>
  <dc:title>Diapositiva 1</dc:title>
</cp:coreProperties>
</file>