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321-F808-4F3C-B01F-89DF0FA8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22D-7482-495D-ADF6-9884C30A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C91-B1FC-4C0A-BA3D-3537246E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265-6A93-4E5E-91DA-231AD731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C19-4C6E-4FF5-9AD0-3D0ACB9F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72D-E950-4647-92CA-7FA4E637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4AF-0310-437E-BF53-F32BC4D0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982-8A84-4ABF-835B-F39994B0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6EF-A69E-4DCA-AE09-B53B1372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54A-7C0F-4B30-8BEF-83AC4D8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F4E-A68B-4D1B-BF88-6FDB96A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BEF-6594-475D-867B-2A0DD2C3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4ACD-845A-451D-A7DC-6E7B2016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55680" y="-171360"/>
            <a:ext cx="9896400" cy="722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052640"/>
            <a:ext cx="777528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nadie preguntes quién es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i qué quiere.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a lo sabes,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 un hombre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quiere ser amado.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600552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1" i="1" lang="en-US" sz="2800" spc="-1" strike="noStrike">
                <a:solidFill>
                  <a:srgbClr val="ffff99"/>
                </a:solidFill>
                <a:latin typeface="Arial Black"/>
              </a:rPr>
              <a:t>San Agus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17:49Z</dcterms:created>
  <dc:creator>JSHV</dc:creator>
  <dc:description/>
  <dc:language>en-US</dc:language>
  <cp:lastModifiedBy>JSHV</cp:lastModifiedBy>
  <dcterms:modified xsi:type="dcterms:W3CDTF">2013-01-08T17:11:28Z</dcterms:modified>
  <cp:revision>2</cp:revision>
  <dc:subject/>
  <dc:title>Diapositiva 1</dc:title>
</cp:coreProperties>
</file>