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AD2-EDDF-41A2-8A01-D0A536D1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CCF-B586-4C54-80B8-EAF068B2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C37-9261-4222-8F0A-3829A030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A09-EC4D-4D63-B546-DB786E2B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146-5222-4771-9C67-760CEDBE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867-77BC-49BB-9DFD-CF0E61BB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F80-962E-462F-B9B2-182012F4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573-F1FB-412C-A813-BB1F1BB7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FAC-340A-415C-8653-DD84F175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D11-7D52-420D-826E-99DC5B42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528-4D08-4A77-A167-71C3BD81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6FF-CFA1-4AEF-ADD1-A8E964F5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F4C4-86B3-4908-B961-A10E716E7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59796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20760" y="3860640"/>
            <a:ext cx="65199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eliz el que te ama a ti,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 amigo en ti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 al enemigo por ti.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307200"/>
            <a:ext cx="33055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55:08Z</dcterms:created>
  <dc:creator>PROPIETARIO</dc:creator>
  <dc:description/>
  <dc:language>en-US</dc:language>
  <cp:lastModifiedBy>PROPIETARIO</cp:lastModifiedBy>
  <dcterms:modified xsi:type="dcterms:W3CDTF">2015-03-04T09:55:08Z</dcterms:modified>
  <cp:revision>1</cp:revision>
  <dc:subject/>
  <dc:title>Diapositiva 1</dc:title>
</cp:coreProperties>
</file>