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C82-B74A-4276-94AF-445AD9EB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CFC-6290-471F-9660-9B643721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38F-4484-4A8C-BDF7-752AE416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084E-1E9A-4BA3-8EFA-46D85615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CC51-F29E-4BC8-8A64-6061B7D3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A47E-C636-4F7B-BA51-1E44994B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FCE0-22D3-4073-B25C-AB2B3FB8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776-85C0-42AD-860A-1665B27A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3B3-5534-41BF-A9E7-473C266B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5E8-F032-4F34-96DA-1CEF86BB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6B1-8507-4DBE-A697-6631AB6A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B32-B2F3-45DC-BAE9-831057C7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BF85-ED19-42E8-B11D-F1DD6574B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68360" y="-171360"/>
            <a:ext cx="9807480" cy="735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68360" y="693720"/>
            <a:ext cx="7920000" cy="518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¿Qué otra experienci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abrá en el mundo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 cause mayor deleite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l corazón de los humanos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 amar y ser amado?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86080" y="6235560"/>
            <a:ext cx="25718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gustín de Hipona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5T21:45:57Z</dcterms:created>
  <dc:creator>JSHV</dc:creator>
  <dc:description/>
  <dc:language>en-US</dc:language>
  <cp:lastModifiedBy>JSHV</cp:lastModifiedBy>
  <dcterms:modified xsi:type="dcterms:W3CDTF">2013-04-01T17:45:36Z</dcterms:modified>
  <cp:revision>4</cp:revision>
  <dc:subject/>
  <dc:title>Diapositiva 1</dc:title>
</cp:coreProperties>
</file>