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ECB3-D01B-4551-9B96-CB4DBEDAA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7453-EE84-47B5-818F-A76FF503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A380-6F33-4D26-8D07-FD4F56641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8BB8-F632-469D-95E7-73522C58D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D869-34FA-41B9-A712-8E1F9E8F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686C-0DD5-4683-95AB-E4D5A733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01DD-C3D8-40A6-A98E-B6D97E24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A193-BF39-4063-AF92-C859BF0E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479A-D8DE-49A8-83BD-ADC3BE13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3DA7-5111-4BB2-A787-E76E91D7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593F-D253-4D43-BDF3-8FEDAACC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CD0A-8309-4B97-898D-811D0FEF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AD24-F01B-4C31-8955-569174F1C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615600" cy="7212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276720" y="404640"/>
            <a:ext cx="547200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a encontrarse con Dios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s necesario el silencio.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6091200"/>
            <a:ext cx="33051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an AGUSTÍN. 354-430.</a:t>
            </a:r>
            <a:endParaRPr b="0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4T09:06:22Z</dcterms:created>
  <dc:creator>PROPIETARIO</dc:creator>
  <dc:description/>
  <dc:language>en-US</dc:language>
  <cp:lastModifiedBy>PROPIETARIO</cp:lastModifiedBy>
  <dcterms:modified xsi:type="dcterms:W3CDTF">2015-03-04T09:06:22Z</dcterms:modified>
  <cp:revision>1</cp:revision>
  <dc:subject/>
  <dc:title>Diapositiva 1</dc:title>
</cp:coreProperties>
</file>