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0DE-1556-4EF6-9FCE-120FB848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759-CC14-49A2-B328-C7A564C0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C148-BFD9-4141-831B-E9006137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A333-522A-48D4-9C57-479080C9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5E6-91BD-4045-B312-9AD8222E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61A-D4C0-4AF7-A538-3B1345E8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B44-A400-491D-A9B3-FE19B7EB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C1BB-2C5B-4748-9B0E-DA9760C1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DB43-28FD-4322-8453-E5C842EF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77AC-18B6-4DB3-B959-C31444CE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0268-41AB-4BAA-917F-9A4B2D1D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C83E-525E-4090-A6C7-14707309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5CB8-D083-4CDA-999F-822D865A9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96720" y="-100080"/>
            <a:ext cx="9918720" cy="7377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95280" y="907920"/>
            <a:ext cx="8209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l amor</a:t>
            </a:r>
            <a:endParaRPr b="1" i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ciende la esperanza</a:t>
            </a:r>
            <a:endParaRPr b="1" i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y la esperanza</a:t>
            </a:r>
            <a:endParaRPr b="1" i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rilla gracias al amor.</a:t>
            </a:r>
            <a:endParaRPr b="1" i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14600" y="6380280"/>
            <a:ext cx="4114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gustín de Hipona. 354 - 430.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07:54:42Z</dcterms:created>
  <dc:creator>JSHV</dc:creator>
  <dc:description/>
  <dc:language>en-US</dc:language>
  <cp:lastModifiedBy>JSHV</cp:lastModifiedBy>
  <dcterms:modified xsi:type="dcterms:W3CDTF">2013-05-30T07:54:42Z</dcterms:modified>
  <cp:revision>1</cp:revision>
  <dc:subject/>
  <dc:title>Diapositiva 1</dc:title>
</cp:coreProperties>
</file>