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9912-7F86-4724-B150-AE2A60EB9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987C-51D8-4E51-8288-2F0361E4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DD7B-DD05-4EDD-B65D-0915C42A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CC39-E4C0-4993-AAD2-B14A8D934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5F12-4DA6-4BE3-923E-49AF59CA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B93F-D074-4B40-A0E7-2F2A359D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4334-180E-47B9-99BC-BC5A372B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EF0A-F690-438D-AC0F-0350A1EB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459D-AAA4-460D-8E9E-95F39C22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F4C8-A796-462F-980F-411843B3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C0AF-BAEF-4FC5-89B3-CADDB196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97A8-68B9-4F5A-88C8-ED2EF343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8C06-E6D4-4B61-ABB3-CDB3C868F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81080" y="-100080"/>
            <a:ext cx="9541080" cy="7212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68360" y="4221000"/>
            <a:ext cx="806436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ERNURA: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Justo equilibrio en el amor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 va de alma a alma.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600280" y="6380280"/>
            <a:ext cx="39434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gustín de Hipona. 354-430.</a:t>
            </a:r>
            <a:endParaRPr b="1" i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07:50:54Z</dcterms:created>
  <dc:creator>JSHV</dc:creator>
  <dc:description/>
  <dc:language>en-US</dc:language>
  <cp:lastModifiedBy>JSHV</cp:lastModifiedBy>
  <dcterms:modified xsi:type="dcterms:W3CDTF">2013-08-07T07:54:44Z</dcterms:modified>
  <cp:revision>2</cp:revision>
  <dc:subject/>
  <dc:title>Diapositiva 1</dc:title>
</cp:coreProperties>
</file>