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5983-660F-45A4-8CF7-7DDCC09C4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8697-A675-4DEB-AF67-F4B8B562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119B-661A-4B50-B02B-13D50DF7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F518-E620-4814-9EEE-DFD346FF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CEF3-67C1-4F93-83DB-756D1E2D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9B2C-58D2-4DF7-8B55-E4F95E8E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0BBF-7767-47C9-9ADE-6F761239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D6E8-1B72-4999-BFFA-7749F298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214F-C0C8-4ECF-83B6-84B44B12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A386-378F-4174-8288-4BAAFEAE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AFEB-61C6-468D-B154-983CB913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A3D4-06F5-490A-9670-54ABF5D4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31AD-3F7D-41CB-8F9C-0B6151776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734760" cy="7221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68360" y="476280"/>
            <a:ext cx="83516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l mundo es un gran poema.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Y su autor un gran artista.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409840" y="6091200"/>
            <a:ext cx="432432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GUSTÍN de HIPONA. 354-430.</a:t>
            </a:r>
            <a:endParaRPr b="1" i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6:05:06Z</dcterms:created>
  <dc:creator>PROPIETARIO</dc:creator>
  <dc:description/>
  <dc:language>en-US</dc:language>
  <cp:lastModifiedBy>PROPIETARIO</cp:lastModifiedBy>
  <dcterms:modified xsi:type="dcterms:W3CDTF">2015-03-03T16:05:06Z</dcterms:modified>
  <cp:revision>1</cp:revision>
  <dc:subject/>
  <dc:title>Diapositiva 1</dc:title>
</cp:coreProperties>
</file>