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11DD-5F32-4AF0-B5D5-2954D3C1B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783E-F35A-444F-BC36-00346C95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ABB8-1660-41D4-B4A8-475D46292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BAEE-6ED3-42D8-9B66-E8C30AD50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4DCE-2BE7-426C-9565-56E0AA87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65D7-CA33-469F-9D68-86251196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1A67-40C5-406D-9B5A-406CD81E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A8C2-1724-4F33-8517-EF3743D5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F7EF-1B62-4F20-8E5D-11EA0D73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59D1-A7E8-4424-9CFD-468A4C58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098B-77CB-48DD-BAA2-DBE6920B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FC83-C988-4E60-93FC-FB33DBA1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8F41-7DBC-4F10-889A-8C9794C32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252360" y="-146160"/>
            <a:ext cx="9663120" cy="7247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50920" y="1125360"/>
            <a:ext cx="8640720" cy="518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l que más ama,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ás vive, porque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ien no vive para amar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o vale para vivir.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1T15:49:46Z</dcterms:created>
  <dc:creator>JSHV</dc:creator>
  <dc:description/>
  <dc:language>en-US</dc:language>
  <cp:lastModifiedBy>JSHV</cp:lastModifiedBy>
  <dcterms:modified xsi:type="dcterms:W3CDTF">2012-12-11T15:49:46Z</dcterms:modified>
  <cp:revision>1</cp:revision>
  <dc:subject/>
  <dc:title>Diapositiva 1</dc:title>
</cp:coreProperties>
</file>