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FD8-6ED2-47CC-A725-6C6591D7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F55-8311-48FD-A363-BD9BC78D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03B-0C1B-4805-AF29-0CF4EB9C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2AF-E2D2-481B-A124-4E493D2B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D78-D22D-4226-9A8F-4659BCD2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18E-6DF6-488A-B24B-E4DB81AD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640-3663-4193-801F-C1A3CB69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BB6F-D4E1-49EA-99D7-011B87B2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D02-56C7-456B-BB13-5840FEC4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0A4-C31A-4EA5-81DC-D5BEBBE6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9BF-0916-41E2-B305-4212ED25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0B1-021F-4E2F-B4C1-73B0917D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9567-EEB5-45FC-AC74-187CCCC6A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73080" y="-458640"/>
            <a:ext cx="10495080" cy="752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31760" y="4076640"/>
            <a:ext cx="83278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AMOR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S UNA LLAMA INQUIETA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 PUEDE ESTARSE PARADA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9240" y="6165720"/>
            <a:ext cx="33055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5:49:13Z</dcterms:created>
  <dc:creator>PROPIETARIO</dc:creator>
  <dc:description/>
  <dc:language>en-US</dc:language>
  <cp:lastModifiedBy>PROPIETARIO</cp:lastModifiedBy>
  <dcterms:modified xsi:type="dcterms:W3CDTF">2015-03-03T15:49:13Z</dcterms:modified>
  <cp:revision>1</cp:revision>
  <dc:subject/>
  <dc:title>Diapositiva 1</dc:title>
</cp:coreProperties>
</file>