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CCC-76CB-4DBA-94C7-F9553271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A1E-2725-4E96-A7C7-591044F1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A1E-8278-4A16-9D9A-80455C5B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27D-DA25-4411-B73B-CC5E565D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106-E41C-4B29-AADB-78524DB8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5DC-3495-49FD-B7EB-F93CCAF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358-57DF-4F11-A11D-34E72A7D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333-7595-41BA-B965-185EAFC8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63D-D429-4570-8976-3636B618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82E-0DEE-4EED-811F-57E34AF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740-AE9D-4B3D-8D4F-D6324E78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D6E-BF3F-461D-84BC-31B029FB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9FDF-F24D-4874-AC2F-BC162D27C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74360" cy="725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19964400">
            <a:off x="539640" y="2925360"/>
            <a:ext cx="87822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A ANDADURA DEL ALM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S EL AMOR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09840" y="6162840"/>
            <a:ext cx="4324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8:06:23Z</dcterms:created>
  <dc:creator>PROPIETARIO</dc:creator>
  <dc:description/>
  <dc:language>en-US</dc:language>
  <cp:lastModifiedBy>PROPIETARIO</cp:lastModifiedBy>
  <dcterms:modified xsi:type="dcterms:W3CDTF">2015-03-03T18:06:23Z</dcterms:modified>
  <cp:revision>1</cp:revision>
  <dc:subject/>
  <dc:title>Diapositiva 1</dc:title>
</cp:coreProperties>
</file>