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D60-BFF1-463C-AB79-1D8F90A6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83A-0DDF-43FE-A8AA-1A7C6508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CA7-66F2-4BB6-AF3E-82D7BF31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47F-A943-4979-913B-DEED9A5D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885-AB8D-46B0-8C32-66369DE0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AD0-A707-4D26-8CD7-3E06B88A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69B-1E42-4BA1-805C-90E99825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3F5-5DC9-48F6-825D-6DB4401A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2EF-2A57-4CD9-9921-B9CD257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443-0455-46BD-A054-3C665338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FD8-34D3-4955-9FB9-B5587482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FA2-B0C0-4525-B883-1EA28535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85F8-4792-4CBB-9CF7-BF2467611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25280"/>
            <a:ext cx="9634320" cy="722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4437000"/>
            <a:ext cx="7775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A LIBERTAD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s una conquista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86080" y="630720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8:01:24Z</dcterms:created>
  <dc:creator>JSHV</dc:creator>
  <dc:description/>
  <dc:language>en-US</dc:language>
  <cp:lastModifiedBy>JSHV</cp:lastModifiedBy>
  <dcterms:modified xsi:type="dcterms:W3CDTF">2013-04-06T08:01:24Z</dcterms:modified>
  <cp:revision>1</cp:revision>
  <dc:subject/>
  <dc:title>Diapositiva 1</dc:title>
</cp:coreProperties>
</file>