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2983-0C86-4DC8-8715-C44A94A32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00EA-A8A7-438C-9256-2D1CE302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7131-9BA0-4AFD-BAB7-176D047BF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62E0-20D2-46EC-BC9E-1BA0A4958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B2FB-D4A5-4E76-8134-1F57F16C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FC14-4B86-44FB-928B-D6241A25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F3DB-E9AD-4650-97CF-41F72ED2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8AA9-2DC2-4B39-84F1-8BA63D3D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5503-EE2E-45C3-AEFD-40BF5713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1AA2-5A4A-4EDC-B211-4327457D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9DBE-1453-4B33-B108-F824A632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56DB-1CF2-4EC5-9E42-F836D332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AF0E-6200-4E50-9FF3-5966C518D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24000" y="-171360"/>
            <a:ext cx="9847440" cy="7230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348000" y="3164040"/>
            <a:ext cx="5472000" cy="28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Una muerte cristiana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o es el ocaso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e una vida buena,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ino la aurora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e una vida mejor.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11280" y="6091200"/>
            <a:ext cx="33051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an AGUSTÍN. 354-430.</a:t>
            </a:r>
            <a:endParaRPr b="0" i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4T09:38:35Z</dcterms:created>
  <dc:creator>PROPIETARIO</dc:creator>
  <dc:description/>
  <dc:language>en-US</dc:language>
  <cp:lastModifiedBy>PROPIETARIO</cp:lastModifiedBy>
  <dcterms:modified xsi:type="dcterms:W3CDTF">2015-03-04T09:38:35Z</dcterms:modified>
  <cp:revision>1</cp:revision>
  <dc:subject/>
  <dc:title>Diapositiva 1</dc:title>
</cp:coreProperties>
</file>