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015-691E-4D09-BE23-73741B93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7AB-0B71-4D9B-A6A6-4114A582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1CD-CB73-459B-9041-072932F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378-6F4C-46B2-810E-3930E386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103-5C3D-4449-8580-F5C69F06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72F-256F-45A6-9050-10F2612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F7F-9FF3-4BBE-A3FE-2D0CB87D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494-B97D-410B-BC0D-A0825D4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E5C-5525-41AC-9910-4F08AF7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E29-3AB3-464F-BBD0-E0BEDFAD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13E-3926-444B-A647-B2A086F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8CE-3773-4597-968D-518E4C66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08A-9F86-48C3-A589-2759BC28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100080"/>
            <a:ext cx="9788400" cy="720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99880" y="333360"/>
            <a:ext cx="854424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AR Y SER AMADO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 EL PRINCIPAL REMEDIO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TRA TODAS LAS NEUROSIS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76520" y="6380280"/>
            <a:ext cx="3990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gmund Freud. 1856 - 1939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9:07:37Z</dcterms:created>
  <dc:creator>JSHV</dc:creator>
  <dc:description/>
  <dc:language>en-US</dc:language>
  <cp:lastModifiedBy>PROPIETARIO</cp:lastModifiedBy>
  <dcterms:modified xsi:type="dcterms:W3CDTF">2015-03-04T10:11:34Z</dcterms:modified>
  <cp:revision>4</cp:revision>
  <dc:subject/>
  <dc:title>Diapositiva 1</dc:title>
</cp:coreProperties>
</file>