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15AA-04EF-46C1-984A-D63AC152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2F63-2D1C-4C33-9888-253CDE94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07D8-FB50-4984-9D87-B5681EAE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0954-B7B7-4E47-8750-1A24EE37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72AD-E592-4A24-9260-DCECE945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93C1-18BD-47D6-BA50-6629F8B9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4440-5371-4AD1-9375-051E063D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A08F-3407-4CB2-92CD-9C541097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97A9-FB52-41C5-BE5A-DF56CAB7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E9E5-930B-4E12-B4B0-0E0DE138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9D23-555E-4906-8086-EEA9BC62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DDC8-4C86-408D-AF28-CA0D2602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A5EC-836D-4D47-9A0B-A4FDFC4E0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885600" cy="7413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68360" y="3922560"/>
            <a:ext cx="8207280" cy="15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antar con entusiasmo al Señor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s como rezarle dos veces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19240" y="6091200"/>
            <a:ext cx="33055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an AGUSTÍN. 354-430.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5:39:23Z</dcterms:created>
  <dc:creator>PROPIETARIO</dc:creator>
  <dc:description/>
  <dc:language>en-US</dc:language>
  <cp:lastModifiedBy>PROPIETARIO</cp:lastModifiedBy>
  <dcterms:modified xsi:type="dcterms:W3CDTF">2015-03-03T15:39:23Z</dcterms:modified>
  <cp:revision>1</cp:revision>
  <dc:subject/>
  <dc:title>Diapositiva 1</dc:title>
</cp:coreProperties>
</file>