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085-DC23-4C43-8167-2E00ADB1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1A7-4EAD-490F-B285-79B675F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EF0-040F-4136-AEE2-7FAF5C58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ED3-310A-4F91-9258-678ED4B5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7CD-66A7-419A-8104-8AE91C10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54D-1828-40DD-843A-45BE6237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5D5-3458-4CE6-93CA-1920216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57F-4408-4549-A8ED-B540470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4D8-C9C3-4B52-9A1F-175372F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63A-9D51-4E68-862F-615B22D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598-6CAC-4330-A4B6-F796957D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A8E-0747-4D90-8675-1D0B2A9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4F09-6803-44E8-A60E-B7FDA5FD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64720" cy="72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2060640"/>
            <a:ext cx="8136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VERDADERA AMISTAD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TIENE PRECIO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 GRATUITA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9840" y="5803920"/>
            <a:ext cx="43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23:44Z</dcterms:created>
  <dc:creator>PROPIETARIO</dc:creator>
  <dc:description/>
  <dc:language>en-US</dc:language>
  <cp:lastModifiedBy>PROPIETARIO</cp:lastModifiedBy>
  <dcterms:modified xsi:type="dcterms:W3CDTF">2015-03-03T18:23:44Z</dcterms:modified>
  <cp:revision>1</cp:revision>
  <dc:subject/>
  <dc:title>Diapositiva 1</dc:title>
</cp:coreProperties>
</file>