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9AA-A4D7-4686-B004-18678860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3D6-19C3-4EFD-9E50-BDAFBB27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4D5-20E4-4941-8DFE-A4726D84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21B-EDCD-48A5-A565-A0400520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AE7-2B15-4E86-8455-6D525299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F9B-11C9-45DA-9777-C9A226F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31E-F859-4BF9-8E81-EBFA8A9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A00-AC9D-4B9A-A630-515FE93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FF0-6237-477D-B1C7-173CFED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E93-EDB4-4F08-A181-42E3135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536-D3FE-4248-B6A0-394FA92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8DD-10B0-4BE6-987C-11B1D64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A46-81BC-492B-8E30-2EC3AB2D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014200">
            <a:off x="610920" y="1696680"/>
            <a:ext cx="7076880" cy="23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NADA DE LO HUMAN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E RESULTA INDIFERENTE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71880" y="6307200"/>
            <a:ext cx="1247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erencio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09:52:23Z</dcterms:created>
  <dc:creator>JSHV</dc:creator>
  <dc:description/>
  <dc:language>en-US</dc:language>
  <cp:lastModifiedBy>JSHV</cp:lastModifiedBy>
  <dcterms:modified xsi:type="dcterms:W3CDTF">2013-05-05T09:52:23Z</dcterms:modified>
  <cp:revision>1</cp:revision>
  <dc:subject/>
  <dc:title>Diapositiva 1</dc:title>
</cp:coreProperties>
</file>