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E04-667B-4CDF-AFD3-1C4E383A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BF8-A907-47C3-9FD0-D270A62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9AB-0BA1-4FF4-918B-8C950397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F66-47FC-4274-8F9A-719EF569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EB-C0B3-47A2-9E81-23AA6AB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014-573A-49EE-94A2-8B3B547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F31-341A-4D3F-9D5E-964A037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7CC-1A8A-45F5-86EB-101B850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405-455B-45F0-8A5B-B2204BA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D17-B39F-4D10-BCF3-E61C316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20F-6D4A-4B91-836D-0DA2A6C1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8CB-BFD9-48D0-B831-296A537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A62-CF1E-46ED-AF87-A9461489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217440"/>
            <a:ext cx="9663120" cy="724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1268280"/>
            <a:ext cx="8064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ducar</a:t>
            </a:r>
            <a:endParaRPr b="1" i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 sentido religioso</a:t>
            </a:r>
            <a:endParaRPr b="1" i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educar</a:t>
            </a:r>
            <a:endParaRPr b="1" i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ra la felicidad.</a:t>
            </a:r>
            <a:endParaRPr b="1" i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14600" y="6093000"/>
            <a:ext cx="2314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Agustín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1:29:26Z</dcterms:created>
  <dc:creator>JSHV</dc:creator>
  <dc:description/>
  <dc:language>en-US</dc:language>
  <cp:lastModifiedBy>JSHV</cp:lastModifiedBy>
  <dcterms:modified xsi:type="dcterms:W3CDTF">2012-12-11T11:29:26Z</dcterms:modified>
  <cp:revision>1</cp:revision>
  <dc:subject/>
  <dc:title>Diapositiva 1</dc:title>
</cp:coreProperties>
</file>