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6CE-7443-42BA-91F7-70F03374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1E7-C45E-441A-AA84-5A8B75A2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77E-9275-4B2A-A76C-A2253F9A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80E-5B57-491C-9559-5C1FE9D6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0F8-471D-4859-803F-C715C0B7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68AB-086A-4FB9-8495-FE0C5E08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03E-63CF-4A4D-949E-A2E18678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E4C-FF37-45D0-BED2-1491A2EB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3DEB-4D78-4A9B-B592-9CB50C58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F93-5809-4B2E-A8F0-3D6333BF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8C9-168E-4020-827F-C95EF1B5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4E9-D300-44B5-8F36-1FA95132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16A2-B2FF-4B2E-9A24-6FF0B2F0F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15600" cy="7212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19200" y="4078440"/>
            <a:ext cx="79056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acticad la Justicia,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ro anteponed la Misericordia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86080" y="6307200"/>
            <a:ext cx="25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16:37:39Z</dcterms:created>
  <dc:creator>JSHV</dc:creator>
  <dc:description/>
  <dc:language>en-US</dc:language>
  <cp:lastModifiedBy>JSHV</cp:lastModifiedBy>
  <dcterms:modified xsi:type="dcterms:W3CDTF">2013-03-31T16:37:39Z</dcterms:modified>
  <cp:revision>1</cp:revision>
  <dc:subject/>
  <dc:title>Diapositiva 1</dc:title>
</cp:coreProperties>
</file>