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E15-2F4B-4904-BC1A-90717DFE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9CF-4B72-4BF5-9252-DBA8DE2A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A93-189C-402B-9F78-6CD47AB7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99F-41F9-4E24-9F5F-E1C4FB49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BB1-EDAC-4D30-A7BF-E5E91D85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2C9-778A-4F1A-8579-EAAEFDE1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9E7-AEA4-4F39-9AAD-8FEB0031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2C7-3E2B-432F-B53C-4D133B6F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FD8-D058-4174-A0C5-4275810A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ACE-6043-450C-8F81-955D454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9E6-7BD5-4DB8-87D8-B00612E6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853-DF6E-4FB3-8590-D5D72183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B0FB-B6E2-4744-8BAC-74D6F6142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96720" y="-100080"/>
            <a:ext cx="990432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449280"/>
            <a:ext cx="835164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s has hecho, SEÑOR, para ti</a:t>
            </a:r>
            <a:endParaRPr b="0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4581360"/>
            <a:ext cx="83534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nuestro corazón está inquieto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sta que descanse en ti.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14600" y="6381720"/>
            <a:ext cx="41148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 - 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12:04:10Z</dcterms:created>
  <dc:creator>JSHV</dc:creator>
  <dc:description/>
  <dc:language>en-US</dc:language>
  <cp:lastModifiedBy>JSHV</cp:lastModifiedBy>
  <dcterms:modified xsi:type="dcterms:W3CDTF">2013-06-08T08:11:44Z</dcterms:modified>
  <cp:revision>3</cp:revision>
  <dc:subject/>
  <dc:title>Diapositiva 1</dc:title>
</cp:coreProperties>
</file>