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C91-A87A-4CE0-BDB6-AC4EF248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D23-5A21-4413-B229-13449047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E7E-DE54-439D-AB87-A5F86350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424-5E55-47DB-BCFD-0AFB2D5E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6D9-5EE2-4B35-90D4-72B10E2D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78D-E6CD-419D-82D2-791823EE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81F-0370-447E-A8E3-864EC0D4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2BF-3C7D-4F3A-9425-9C3469CA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A92C-F0B4-4C01-ABF3-C43E0142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261-02ED-4099-9163-63ED81A1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5A7-4672-40F8-B5E9-459EF6EC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B70-80E3-4D26-9DFE-FF943F6B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040C-1AA7-4237-9422-331635F41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634320" cy="722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68360" y="4654440"/>
            <a:ext cx="82072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oración es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afectuoso alargamiento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l espíritu hacia Dios.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299200" y="333360"/>
            <a:ext cx="33051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8:20:03Z</dcterms:created>
  <dc:creator>PROPIETARIO</dc:creator>
  <dc:description/>
  <dc:language>en-US</dc:language>
  <cp:lastModifiedBy>PROPIETARIO</cp:lastModifiedBy>
  <dcterms:modified xsi:type="dcterms:W3CDTF">2015-03-03T18:20:03Z</dcterms:modified>
  <cp:revision>1</cp:revision>
  <dc:subject/>
  <dc:title>Diapositiva 1</dc:title>
</cp:coreProperties>
</file>