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822-2DE8-45EA-A09E-61DC7CB1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154-DE3D-4932-90B8-4BD0161B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501-4126-4FAB-BAC8-21E8CA3A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907F-CA35-47FC-A78C-4E52D6BE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D0E-3BE8-4D6F-BD51-A02169BE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C2F-3833-45AD-A212-455BE4E0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49A-9F38-4442-A2D4-E6060E68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C8C-933C-4FC0-AE27-806A76D8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34E-78A4-43D6-9E3F-E79D4742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143-D3A5-4159-8669-6CC5DC6C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C5A-B0EF-4772-80B7-E5391F64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FA1-D2BD-41EC-9C29-82420D2A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9D74-8F3A-41C0-8F47-B5E80763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00080"/>
            <a:ext cx="9663120" cy="7247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1916280"/>
            <a:ext cx="820908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 medida del amor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s el amor sin medida.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00280" y="6307200"/>
            <a:ext cx="39434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-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4:35:55Z</dcterms:created>
  <dc:creator>JSHV</dc:creator>
  <dc:description/>
  <dc:language>en-US</dc:language>
  <cp:lastModifiedBy>JSHV</cp:lastModifiedBy>
  <dcterms:modified xsi:type="dcterms:W3CDTF">2013-05-06T10:39:42Z</dcterms:modified>
  <cp:revision>2</cp:revision>
  <dc:subject/>
  <dc:title>Diapositiva 1</dc:title>
</cp:coreProperties>
</file>