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71C-F651-48D4-B485-A6954F3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BFD-44DE-4985-8522-14DE9DC1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5F0-02B9-45B5-96C0-54481AA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DB1-2AD7-421A-B533-422B83F5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D21-564B-48AC-A6DD-0D51E2FC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DF5-F946-4177-9647-21EC19E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C19-2CC6-461A-9F07-5A92B1A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88A-E5D4-449E-A746-13B60C5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6CF-7C1D-4FCD-BDB6-37DFE82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A6A-AE9B-4D3C-973A-C062454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EEB-FD9B-4703-8CCF-633FC16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03C-3136-4974-AD07-2A8DBED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595E-2490-4F7D-9D95-B41E1C76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2554200"/>
            <a:ext cx="806436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ólo se ama aquello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se puede estrechar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tre los brazos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7:03:52Z</dcterms:created>
  <dc:creator>JSHV</dc:creator>
  <dc:description/>
  <dc:language>en-US</dc:language>
  <cp:lastModifiedBy>JSHV</cp:lastModifiedBy>
  <dcterms:modified xsi:type="dcterms:W3CDTF">2013-04-13T17:03:52Z</dcterms:modified>
  <cp:revision>1</cp:revision>
  <dc:subject/>
  <dc:title>Diapositiva 1</dc:title>
</cp:coreProperties>
</file>