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D03-9EC8-4129-A716-B4AD8703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31F-E363-413F-A917-0A76BB8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35F-0EC0-4D43-930D-7D4B1ED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8E5-1D0E-4AD5-8CA8-DA64BA0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F85-57FD-4C14-9BF6-FF1397E3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129-9651-4325-947E-4BEC46BC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AA3-EBD0-42A4-BDA2-1BA1EFF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260-5F46-429F-8F71-DD4330D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5FE-962D-4AC0-B826-F791E171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123-8030-4FAD-AE9C-E10EFA1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C4E-B2D7-48E8-855E-EAB18A6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022-75C1-4EE5-AD5C-BA37A4A2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DFAA-D2F3-4E49-A6ED-0B507D9A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26400" cy="721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3645000"/>
            <a:ext cx="791208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RABAJA EN LA VIDA</a:t>
            </a:r>
            <a:endParaRPr b="1" i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O SI TODO DEPENDIERA DE TI,</a:t>
            </a:r>
            <a:endParaRPr b="1" i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ABIENDO QUE TODO DEPENDE</a:t>
            </a:r>
            <a:endParaRPr b="1" i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LA GRACIA.</a:t>
            </a:r>
            <a:endParaRPr b="1" i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38028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31:09Z</dcterms:created>
  <dc:creator>PROPIETARIO</dc:creator>
  <dc:description/>
  <dc:language>en-US</dc:language>
  <cp:lastModifiedBy>PROPIETARIO</cp:lastModifiedBy>
  <dcterms:modified xsi:type="dcterms:W3CDTF">2015-03-04T09:31:09Z</dcterms:modified>
  <cp:revision>1</cp:revision>
  <dc:subject/>
  <dc:title>Diapositiva 1</dc:title>
</cp:coreProperties>
</file>