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880-9E90-4051-BEF1-5D5FDA5D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AA4-0DBD-467E-B9DE-5A059EEE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68A-D1C6-4F7C-B2EA-F4BD087D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889-1E1F-45A8-8A28-E8F184B9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754-B38D-4AAD-98D4-B4481F51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73F-95DE-47B5-A898-7769BD93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8FC-BB84-43DC-8925-2BBD4DF4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1F4-FCE9-46D6-8D8B-B3207068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0D8-DAEF-4D60-9D9B-865A7FB8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191-3CE8-4945-94A3-16DEC7B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84C-D747-47F7-A9B6-00C85399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D3C-7360-4F92-B8D6-51B6C1F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1E4D-7597-48D1-9882-9C4C79928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-100080"/>
            <a:ext cx="9615600" cy="721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100600">
            <a:off x="858600" y="1628280"/>
            <a:ext cx="8537400" cy="39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¿TEMES DE LA MUERTE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UEDES EVITARLA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MA LA VID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MA A DIOS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QUE ES LA VID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21:39Z</dcterms:created>
  <dc:creator>PROPIETARIO</dc:creator>
  <dc:description/>
  <dc:language>en-US</dc:language>
  <cp:lastModifiedBy>PROPIETARIO</cp:lastModifiedBy>
  <dcterms:modified xsi:type="dcterms:W3CDTF">2015-03-04T09:21:39Z</dcterms:modified>
  <cp:revision>1</cp:revision>
  <dc:subject/>
  <dc:title>Diapositiva 1</dc:title>
</cp:coreProperties>
</file>