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85A-BD19-4D05-8F06-FF51C9AB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CC3-2471-4B20-8285-BE71D94B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974-7F31-49BB-A68D-8B636474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03A-7F59-4159-9307-88616AC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F7C-CDF3-47B6-871F-B1A87BA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02D-690D-4F55-8DEA-5892F0FB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BA5-BAED-4FC9-9E2C-E02038A3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E1A-38CC-4247-BF24-795C2AE9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1E6-5DC3-47F5-AEC3-33A83B7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255-0289-4B66-AC5D-1C069C9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777-265B-4651-89B4-08C723FF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75D-D23C-4A97-8C1B-EEA0AC9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345-323D-42D8-839A-DBE01C8E2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760" y="-146160"/>
            <a:ext cx="9663120" cy="724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56000" y="4149720"/>
            <a:ext cx="611964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 basta con hacer 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sas buenas.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y que hacerlas bien.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 rot="589800">
            <a:off x="4664160" y="6286680"/>
            <a:ext cx="25718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gustín de Hipona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21:28:35Z</dcterms:created>
  <dc:creator>JSHV</dc:creator>
  <dc:description/>
  <dc:language>en-US</dc:language>
  <cp:lastModifiedBy>JSHV</cp:lastModifiedBy>
  <dcterms:modified xsi:type="dcterms:W3CDTF">2013-03-27T21:28:35Z</dcterms:modified>
  <cp:revision>1</cp:revision>
  <dc:subject/>
  <dc:title>Diapositiva 1</dc:title>
</cp:coreProperties>
</file>