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B822-F994-41CA-AEDA-CC06783D7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3021-7D69-48E7-8A3E-39BCD7A46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02D3-7C20-4FCD-A029-C56F5AFF5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55A6-C268-4152-B5B5-89CD06B47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C9FE-8833-4839-9553-484DC491B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0F8D-6E1D-4A9C-AD03-6772E57A9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6CD5-3DA9-4F59-849E-AE61A4987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2646-4F05-4E91-BF76-934139A4F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DE07-0092-4A40-87F3-13604E1CE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56ED-8465-418E-8526-0328A4C15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F05F-70E1-48C3-A64E-0D1C6537E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106B-B610-4CA2-B5BF-D06E816E6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FD9AB-344A-4AD1-AA5B-F47BA215E7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396720" y="-171360"/>
            <a:ext cx="9767880" cy="72262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684360" y="4091040"/>
            <a:ext cx="7632720" cy="17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Me lo dijeron las estrellas:</a:t>
            </a:r>
            <a:endParaRPr b="0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ara llegar a Dios</a:t>
            </a:r>
            <a:endParaRPr b="0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l mejor camino es el hombre.</a:t>
            </a:r>
            <a:endParaRPr b="0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919240" y="6235560"/>
            <a:ext cx="3305520" cy="3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San AGUSTÍN. 354-430.</a:t>
            </a:r>
            <a:endParaRPr b="1" i="1" lang="en-US" sz="2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3T15:25:58Z</dcterms:created>
  <dc:creator>PROPIETARIO</dc:creator>
  <dc:description/>
  <dc:language>en-US</dc:language>
  <cp:lastModifiedBy>PROPIETARIO</cp:lastModifiedBy>
  <dcterms:modified xsi:type="dcterms:W3CDTF">2015-03-03T15:25:58Z</dcterms:modified>
  <cp:revision>1</cp:revision>
  <dc:subject/>
  <dc:title>Diapositiva 1</dc:title>
</cp:coreProperties>
</file>