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344-2266-4208-ABE5-121A0F88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42C-6A5E-4330-8725-3CD64F99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7E1-6C13-4F93-8B2C-5F58F671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418-A996-483F-80B2-92659274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318-E087-45DC-A78B-9D68EC7E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EF4-9F5A-478B-9DFF-A2EB263E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30D-FF88-4D15-8C0C-0C40013D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F36-2C83-4423-879A-8A2DE255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196-6D50-4CA0-B1A8-E0AEC86C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260-D66B-45E8-BA86-C9F6FA76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F87-1C58-4157-AC5A-65F0F057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5B8-5B30-4D24-803B-624D09FF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F534-7205-4BD2-B73C-C2208C8CC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2800" cy="7210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187280" y="1917720"/>
            <a:ext cx="69138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verdadero honor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l hombre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ste en ser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magen de Dios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38480" y="5875200"/>
            <a:ext cx="3305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45:35Z</dcterms:created>
  <dc:creator>PROPIETARIO</dc:creator>
  <dc:description/>
  <dc:language>en-US</dc:language>
  <cp:lastModifiedBy>PROPIETARIO</cp:lastModifiedBy>
  <dcterms:modified xsi:type="dcterms:W3CDTF">2015-03-03T17:45:35Z</dcterms:modified>
  <cp:revision>1</cp:revision>
  <dc:subject/>
  <dc:title>Diapositiva 1</dc:title>
</cp:coreProperties>
</file>