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Quiero%20creer%20GD%20180s.wav" ContentType="audio/x-wav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63F-395F-4003-9A7C-A6CB3AD0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197-CCAD-407C-A4F0-7508C850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02F-544B-4593-9540-1FD81430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F0E-8174-47A9-B589-12D12F1B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B65-DE18-46CD-9561-BEF28C1D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2D3-DEBF-4895-B93D-9CCAAFE9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980-D15C-4BAF-A106-84957B96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6DB-9EE1-4163-A75C-0C0A43B9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2C5-F3C8-4D8C-A7D0-F67F8007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780-3EF4-45B2-A059-FD15A025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8E9-85DB-4D5D-9F66-44727AE2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B9A-1B89-4B85-9524-7D6A0981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88D2-7D2F-4C0E-88AB-C7E6880CB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Quiero%20creer%20GD%20180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720360" cy="720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75640" y="61498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33"/>
                </a:solidFill>
                <a:latin typeface="Berlin Sans FB"/>
              </a:rPr>
              <a:t>        </a:t>
            </a:r>
            <a:r>
              <a:rPr b="1" i="1" lang="es-ES" sz="2800" spc="-1" strike="noStrike">
                <a:solidFill>
                  <a:srgbClr val="ff9933"/>
                </a:solidFill>
                <a:latin typeface="Berlin Sans FB"/>
              </a:rPr>
              <a:t>PPSh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1628640"/>
            <a:ext cx="763272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QUIERO CREER</a:t>
            </a:r>
            <a:endParaRPr b="1" i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  <p:sndAc>
      <p:stSnd>
        <p:snd r:embed="rId2" name="Quiero%20creer%20GD%20180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52360" y="-171360"/>
            <a:ext cx="9615600" cy="7211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476280"/>
            <a:ext cx="8280360" cy="18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Berlin Sans FB"/>
              </a:rPr>
              <a:t>El corazón aleg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Berlin Sans FB"/>
              </a:rPr>
              <a:t>mejora la salu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Berlin Sans FB"/>
              </a:rPr>
              <a:t>Proverbio bí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15600" cy="7211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55640" y="1698480"/>
            <a:ext cx="7561440" cy="345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corazón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scubre razones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 la inteligencia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 alcanza a ver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562200" y="56610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Berlin Sans FB"/>
              </a:rPr>
              <a:t>Blas 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5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918720" cy="7377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3789360"/>
            <a:ext cx="849780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Berlin Sans FB"/>
              </a:rPr>
              <a:t>Poned atenc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Berlin Sans FB"/>
              </a:rPr>
              <a:t>un corazón soli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Berlin Sans FB"/>
              </a:rPr>
              <a:t>no es un coraz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Berlin Sans FB"/>
              </a:rPr>
              <a:t>Antonio Ma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3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788760" cy="7218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108000" y="44280"/>
            <a:ext cx="4175280" cy="309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5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2 0.028 0.08259 0.062 0.08259 C 0.097 0.08259 0.125 0.04662 0.125 0 C 0.125 -0.04662 0.153 -0.08259 0.188 -0.08259 C 0.222 -0.08259 0.25 -0.04662 0.25 0 E">
                                      <p:cBhvr>
                                        <p:cTn id="13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15600" cy="7211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1280" y="2770200"/>
            <a:ext cx="79214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Berlin Sans FB"/>
              </a:rPr>
              <a:t>“</a:t>
            </a:r>
            <a:r>
              <a:rPr b="1" i="1" lang="en-US" sz="4400" spc="-1" strike="noStrike">
                <a:solidFill>
                  <a:srgbClr val="0033cc"/>
                </a:solidFill>
                <a:latin typeface="Berlin Sans FB"/>
              </a:rPr>
              <a:t>En el interior del ho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Berlin Sans FB"/>
              </a:rPr>
              <a:t>habita la Verdad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erlin Sans FB"/>
              </a:rPr>
              <a:t>San Agus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 0.125 0.16651 C 0.125 0.25843 0.069 0.33302 0 0.33302 C -0.069 0.33302 -0.125 0.25843 -0.125 0.16651 C -0.125 0.0746 -0.069 0 0 0 Z">
                                      <p:cBhvr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5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15600" cy="7212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644400"/>
            <a:ext cx="4752720" cy="49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Berlin Sans FB"/>
              </a:rPr>
              <a:t>Nos hicist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Berlin Sans FB"/>
              </a:rPr>
              <a:t>Señ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Berlin Sans FB"/>
              </a:rPr>
              <a:t>para 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Berlin Sans FB"/>
              </a:rPr>
              <a:t>y nuestro coraz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Berlin Sans FB"/>
              </a:rPr>
              <a:t>está inqui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Berlin Sans FB"/>
              </a:rPr>
              <a:t>hasta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Berlin Sans FB"/>
              </a:rPr>
              <a:t>descan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Berlin Sans FB"/>
              </a:rPr>
              <a:t>en 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9500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erlin Sans FB"/>
              </a:rPr>
              <a:t>San Agus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5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01200" cy="7202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576440" y="4797360"/>
            <a:ext cx="5991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corazón es la morad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nde yo me adentro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6093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Berlin Sans FB"/>
              </a:rPr>
              <a:t>   </a:t>
            </a:r>
            <a:r>
              <a:rPr b="1" i="1" lang="en-US" sz="2800" spc="-1" strike="noStrike">
                <a:solidFill>
                  <a:srgbClr val="0033cc"/>
                </a:solidFill>
                <a:latin typeface="Berlin Sans FB"/>
              </a:rPr>
              <a:t>Catecismo Cató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5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15600" cy="7211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132000" y="1557360"/>
            <a:ext cx="3024360" cy="4392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5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677520" cy="7197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7280" y="333360"/>
            <a:ext cx="4932360" cy="3527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213000"/>
            <a:ext cx="835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3994200"/>
            <a:ext cx="842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Berlin Sans FB"/>
              </a:rPr>
              <a:t>El coraz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Berlin Sans FB"/>
              </a:rPr>
              <a:t>es la tarjeta de ident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Berlin Sans FB"/>
              </a:rPr>
              <a:t>más verdade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5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5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2 0.028 0.08259 0.062 0.08259 C 0.097 0.08259 0.125 0.04662 0.125 0 C 0.125 -0.04662 0.153 -0.08259 0.188 -0.08259 C 0.222 -0.08259 0.25 -0.04662 0.25 0 E">
                                      <p:cBhvr>
                                        <p:cTn id="20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774360" cy="7227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476360" y="3284640"/>
            <a:ext cx="5761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¡Qué pequeñita es la cuna,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é chiquita la canción;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s cabe la vida en ést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 en aquélla el corazón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616572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Berlin Sans FB"/>
              </a:rPr>
              <a:t>           </a:t>
            </a:r>
            <a:r>
              <a:rPr b="1" i="1" lang="en-US" sz="2800" spc="-1" strike="noStrike">
                <a:solidFill>
                  <a:srgbClr val="0033cc"/>
                </a:solidFill>
                <a:latin typeface="Berlin Sans FB"/>
              </a:rPr>
              <a:t>Juan Ramón Jimén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5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577440" cy="721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38240" y="5805360"/>
            <a:ext cx="7067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QUILIBRIO-PAZ-FELICIDAD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000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742320" cy="7211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8360" y="4221000"/>
            <a:ext cx="8207280" cy="18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Berlin Sans FB"/>
              </a:rPr>
              <a:t>Cuando se muere un gorr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Berlin Sans FB"/>
              </a:rPr>
              <a:t>a todos debe dolern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Berlin Sans FB"/>
              </a:rPr>
              <a:t>un poquito el coraz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6021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erlin Sans FB"/>
              </a:rPr>
              <a:t>Anita Arro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 0.125 0.16651 C 0.125 0.25843 0.069 0.33302 0 0.33302 C -0.069 0.33302 -0.125 0.25843 -0.125 0.16651 C -0.125 0.0746 -0.069 0 0 0 Z">
                                      <p:cBhvr>
                                        <p:cTn id="229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15600" cy="7211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738920" y="6093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cc"/>
                </a:solidFill>
                <a:latin typeface="Berlin Sans FB"/>
              </a:rPr>
              <a:t>PPSh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71640" y="4879800"/>
            <a:ext cx="7345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QUIERO CREER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5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81080" y="-182520"/>
            <a:ext cx="9615600" cy="7211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4653000"/>
            <a:ext cx="828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Berlin Sans FB"/>
              </a:rPr>
              <a:t>El equilibrio huma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Berlin Sans FB"/>
              </a:rPr>
              <a:t>se sustenta en tres valo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Berlin Sans FB"/>
              </a:rPr>
              <a:t>Mente, corazón y cuerp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5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15600" cy="72122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15600" cy="721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1197000"/>
            <a:ext cx="8424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Berlin Sans FB"/>
              </a:rPr>
              <a:t>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Berlin Sans FB"/>
              </a:rPr>
              <a:t>el coraz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Berlin Sans FB"/>
              </a:rPr>
              <a:t>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Berlin Sans FB"/>
              </a:rPr>
              <a:t>cultiv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Berlin Sans FB"/>
              </a:rPr>
              <a:t>los mejo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Berlin Sans FB"/>
              </a:rPr>
              <a:t>sentimien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662 0.028 -0.08259 0.062 -0.08259 C 0.097 -0.08259 0.125 -0.04662 0.125 0 C 0.125 0.04662 0.153 0.08259 0.188 0.08259 C 0.222 0.08259 0.25 0.04662 0.25 0 E">
                                      <p:cBhvr>
                                        <p:cTn id="48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15600" cy="7211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500120" y="1812960"/>
            <a:ext cx="614376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corazón no se parte,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o la mente o la vida,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o la rueda de oficios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 el pozo o la cocina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corazón se da entero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58972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Berlin Sans FB"/>
              </a:rPr>
              <a:t>     </a:t>
            </a:r>
            <a:r>
              <a:rPr b="1" i="1" lang="en-US" sz="2800" spc="-1" strike="noStrike">
                <a:solidFill>
                  <a:srgbClr val="0033cc"/>
                </a:solidFill>
                <a:latin typeface="Berlin Sans FB"/>
              </a:rPr>
              <a:t>Gerardo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15600" cy="7211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765000"/>
            <a:ext cx="7561440" cy="5400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5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51960" cy="7224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3933720"/>
            <a:ext cx="8569440" cy="27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Berlin Sans FB"/>
              </a:rPr>
              <a:t>Corazón que no qu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Berlin Sans FB"/>
              </a:rPr>
              <a:t>sufrir d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Berlin Sans FB"/>
              </a:rPr>
              <a:t>pase la vida ent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Berlin Sans FB"/>
              </a:rPr>
              <a:t>libre de amor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5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5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649080" cy="7196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132000" y="836640"/>
            <a:ext cx="2880000" cy="396072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3960720"/>
              <a:gd name="textAreaBottom" fmla="*/ 3820320 h 3960720"/>
            </a:gdLst>
            <a:ahLst/>
            <a:rect l="textAreaLeft" t="textAreaTop" r="textAreaRight" b="textAreaBottom"/>
            <a:pathLst>
              <a:path w="21600" h="29704">
                <a:moveTo>
                  <a:pt x="3600" y="0"/>
                </a:moveTo>
                <a:arcTo wR="3600" hR="3600" stAng="16200000" swAng="-5400000"/>
                <a:lnTo>
                  <a:pt x="0" y="26104"/>
                </a:lnTo>
                <a:arcTo wR="3600" hR="3600" stAng="10800000" swAng="-5400000"/>
                <a:lnTo>
                  <a:pt x="18000" y="297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5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3:56:39Z</dcterms:created>
  <dc:creator>JSHV</dc:creator>
  <dc:description/>
  <dc:language>en-US</dc:language>
  <cp:lastModifiedBy>JSHV</cp:lastModifiedBy>
  <dcterms:modified xsi:type="dcterms:W3CDTF">2011-12-04T18:54:28Z</dcterms:modified>
  <cp:revision>20</cp:revision>
  <dc:subject/>
  <dc:title>Diapositiva 1</dc:title>
</cp:coreProperties>
</file>