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Andre%20Kostelanetz%20132s.wav" ContentType="audio/x-wav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12.jpeg" ContentType="image/jpeg"/>
  <Override PartName="/ppt/media/image7.jpeg" ContentType="image/jpeg"/>
  <Override PartName="/ppt/media/image38.jpeg" ContentType="image/jpeg"/>
  <Override PartName="/ppt/media/Andre%20Kostelanetz%20DP%20170s.wav" ContentType="audio/x-wav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7684-DACD-49D7-B975-991BB366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E965-7D66-4725-9D6F-BBCA8187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C770-D0AA-45BC-AFF5-F3B383F8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7D60-9E8A-4E8D-8920-5337CEF0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507A-21D7-479F-9349-4984D03C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3857-AEC1-4203-83B2-02167F80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BA95-2563-46D5-BA06-8EE6DA3F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6DD4-A5FC-4623-81EA-1AA96B28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A06E-63E9-4FB9-B632-0848A11F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91BF-63BE-4AA7-A001-918CEA5E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FBB7-B988-45D2-A71A-CD834B27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B163-DFDA-434D-82C4-FF0EBDFF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C0A8-D2C9-4263-9F3F-FFD0E71D7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Andre%20Kostelanetz%20DP%20170s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Andre%20Kostelanetz%20132s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1680" y="-100080"/>
            <a:ext cx="9626760" cy="7220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96000" y="260280"/>
            <a:ext cx="3024000" cy="3024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9236000">
            <a:off x="250920" y="2471760"/>
            <a:ext cx="6767280" cy="23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5864000"/>
                </a:gradFill>
                <a:latin typeface="Impact"/>
              </a:rPr>
              <a:t>TARDE TE AMÉ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5864000"/>
              </a:gradFill>
              <a:latin typeface="Impact"/>
              <a:ea typeface="Impact"/>
            </a:endParaRPr>
          </a:p>
        </p:txBody>
      </p:sp>
      <p:sp>
        <p:nvSpPr>
          <p:cNvPr id="46" name=""/>
          <p:cNvSpPr/>
          <p:nvPr/>
        </p:nvSpPr>
        <p:spPr>
          <a:xfrm>
            <a:off x="7667640" y="62946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PP</a:t>
            </a: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Sh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  <p:sndAc>
      <p:stSnd>
        <p:snd r:embed="rId3" name="Andre%20Kostelanetz%20DP%20170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5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793080" cy="7340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5280" y="60516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60093"/>
                </a:solidFill>
                <a:latin typeface="Arial Black"/>
              </a:rPr>
              <a:t>Y allí te buscab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150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150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5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195640" y="5084640"/>
            <a:ext cx="46004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¡Tarde te amé!</a:t>
            </a:r>
            <a:endParaRPr b="1" i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8000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5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26400" cy="7220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79280" y="333360"/>
            <a:ext cx="3816360" cy="3816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292640"/>
            <a:ext cx="9144000" cy="22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 Black"/>
              </a:rPr>
              <a:t>Como un ser envilecido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 Black"/>
              </a:rPr>
              <a:t>me precipitaba sobre la armon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 Black"/>
              </a:rPr>
              <a:t>de las cos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 Black"/>
              </a:rPr>
              <a:t>que Tú has crea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5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626400" cy="7219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28720" y="765000"/>
            <a:ext cx="7488360" cy="561672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5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720360" cy="7290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52360" y="-100080"/>
            <a:ext cx="9720360" cy="7290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49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cc"/>
                </a:solidFill>
                <a:latin typeface="Arial Black"/>
              </a:rPr>
              <a:t>Estabas conmigo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580536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cc"/>
                </a:solidFill>
                <a:latin typeface="Arial Black"/>
              </a:rPr>
              <a:t>    </a:t>
            </a:r>
            <a:r>
              <a:rPr b="1" i="1" lang="en-US" sz="4400" spc="-1" strike="noStrike">
                <a:solidFill>
                  <a:srgbClr val="0066cc"/>
                </a:solidFill>
                <a:latin typeface="Arial Black"/>
              </a:rPr>
              <a:t>Yo no estaba contig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5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26400" cy="722016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252360" y="-262080"/>
            <a:ext cx="9626400" cy="7220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68360" y="4834080"/>
            <a:ext cx="828036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Black"/>
              </a:rPr>
              <a:t>Me retenían lejos de Ti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Black"/>
              </a:rPr>
              <a:t>esas cosas que no existirí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Black"/>
              </a:rPr>
              <a:t>si no vivieran en T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181080" y="-100080"/>
            <a:ext cx="9626760" cy="722016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" dur="5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108000" y="-190440"/>
            <a:ext cx="9433080" cy="7219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68360" y="4341960"/>
            <a:ext cx="813600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cc"/>
                </a:solidFill>
                <a:latin typeface="Arial Black"/>
              </a:rPr>
              <a:t>Me llamast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cc"/>
                </a:solidFill>
                <a:latin typeface="Arial Black"/>
              </a:rPr>
              <a:t>me grita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cc"/>
                </a:solidFill>
                <a:latin typeface="Arial Black"/>
              </a:rPr>
              <a:t>y rompiste mi sorder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16360" y="333360"/>
            <a:ext cx="3743280" cy="367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5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295200" y="-55440"/>
            <a:ext cx="9835920" cy="7229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06200" y="144360"/>
            <a:ext cx="3889440" cy="3861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" dur="5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6" dur="5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626760" cy="721980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5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181080" y="-119160"/>
            <a:ext cx="9626760" cy="7220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411280" y="549360"/>
            <a:ext cx="6553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cc"/>
                </a:solidFill>
                <a:latin typeface="Arial Black"/>
              </a:rPr>
              <a:t>Brillast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cc"/>
                </a:solidFill>
                <a:latin typeface="Arial Black"/>
              </a:rPr>
              <a:t>resplandeci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cc"/>
                </a:solidFill>
                <a:latin typeface="Arial Black"/>
              </a:rPr>
              <a:t>y disipa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cc"/>
                </a:solidFill>
                <a:latin typeface="Arial Black"/>
              </a:rPr>
              <a:t>mi ceguer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  <p:sndAc>
      <p:stSnd>
        <p:snd r:embed="rId2" name="Andre%20Kostelanetz%20132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181080" y="-100080"/>
            <a:ext cx="9626760" cy="7220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24000" y="2349360"/>
            <a:ext cx="8208720" cy="45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Arial Black"/>
              </a:rPr>
              <a:t>Exhalaste tus perfumes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Arial Black"/>
              </a:rPr>
              <a:t>respiré hondo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Arial Black"/>
              </a:rPr>
              <a:t>y suspiro por T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3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252360" y="-46080"/>
            <a:ext cx="9626400" cy="7220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156360" y="2708280"/>
            <a:ext cx="2987640" cy="4249800"/>
          </a:xfrm>
          <a:custGeom>
            <a:avLst/>
            <a:gdLst>
              <a:gd name="textAreaLeft" fmla="*/ 145800 w 2987640"/>
              <a:gd name="textAreaRight" fmla="*/ 2841840 w 2987640"/>
              <a:gd name="textAreaTop" fmla="*/ 145800 h 4249800"/>
              <a:gd name="textAreaBottom" fmla="*/ 4104000 h 4249800"/>
            </a:gdLst>
            <a:ahLst/>
            <a:rect l="textAreaLeft" t="textAreaTop" r="textAreaRight" b="textAreaBottom"/>
            <a:pathLst>
              <a:path w="21600" h="30724">
                <a:moveTo>
                  <a:pt x="3600" y="0"/>
                </a:moveTo>
                <a:arcTo wR="3600" hR="3600" stAng="16200000" swAng="-5400000"/>
                <a:lnTo>
                  <a:pt x="0" y="27124"/>
                </a:lnTo>
                <a:arcTo wR="3600" hR="3600" stAng="10800000" swAng="-5400000"/>
                <a:lnTo>
                  <a:pt x="18000" y="30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" dur="5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252360" y="-130320"/>
            <a:ext cx="9699480" cy="7231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0"/>
            <a:ext cx="2916360" cy="4437000"/>
          </a:xfrm>
          <a:custGeom>
            <a:avLst/>
            <a:gdLst>
              <a:gd name="textAreaLeft" fmla="*/ 142200 w 2916360"/>
              <a:gd name="textAreaRight" fmla="*/ 2774160 w 2916360"/>
              <a:gd name="textAreaTop" fmla="*/ 142200 h 4437000"/>
              <a:gd name="textAreaBottom" fmla="*/ 4294800 h 4437000"/>
            </a:gdLst>
            <a:ahLst/>
            <a:rect l="textAreaLeft" t="textAreaTop" r="textAreaRight" b="textAreaBottom"/>
            <a:pathLst>
              <a:path w="21600" h="32861">
                <a:moveTo>
                  <a:pt x="3600" y="0"/>
                </a:moveTo>
                <a:arcTo wR="3600" hR="3600" stAng="16200000" swAng="-5400000"/>
                <a:lnTo>
                  <a:pt x="0" y="29261"/>
                </a:lnTo>
                <a:arcTo wR="3600" hR="3600" stAng="10800000" swAng="-5400000"/>
                <a:lnTo>
                  <a:pt x="18000" y="328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0720" y="2924280"/>
            <a:ext cx="2843280" cy="3889440"/>
          </a:xfrm>
          <a:custGeom>
            <a:avLst/>
            <a:gdLst>
              <a:gd name="textAreaLeft" fmla="*/ 138600 w 2843280"/>
              <a:gd name="textAreaRight" fmla="*/ 2704680 w 2843280"/>
              <a:gd name="textAreaTop" fmla="*/ 138600 h 3889440"/>
              <a:gd name="textAreaBottom" fmla="*/ 3750840 h 3889440"/>
            </a:gdLst>
            <a:ahLst/>
            <a:rect l="textAreaLeft" t="textAreaTop" r="textAreaRight" b="textAreaBottom"/>
            <a:pathLst>
              <a:path w="21600" h="29547">
                <a:moveTo>
                  <a:pt x="3600" y="0"/>
                </a:moveTo>
                <a:arcTo wR="3600" hR="3600" stAng="16200000" swAng="-5400000"/>
                <a:lnTo>
                  <a:pt x="0" y="25947"/>
                </a:lnTo>
                <a:arcTo wR="3600" hR="3600" stAng="10800000" swAng="-5400000"/>
                <a:lnTo>
                  <a:pt x="18000" y="295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5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24000" y="4557600"/>
            <a:ext cx="842472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cc"/>
                </a:solidFill>
                <a:latin typeface="Arial Black"/>
              </a:rPr>
              <a:t>Te prob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cc"/>
                </a:solidFill>
                <a:latin typeface="Arial Black"/>
              </a:rPr>
              <a:t>y tuve hamb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cc"/>
                </a:solidFill>
                <a:latin typeface="Arial Black"/>
              </a:rPr>
              <a:t>Y tuve s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5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5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396720" y="-171360"/>
            <a:ext cx="9842400" cy="7378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059280" y="260280"/>
            <a:ext cx="2952720" cy="2881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151600"/>
            <a:ext cx="914400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cc00"/>
                </a:solidFill>
                <a:latin typeface="Arial Black"/>
              </a:rPr>
              <a:t>Me has to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cc00"/>
                </a:solidFill>
                <a:latin typeface="Arial Black"/>
              </a:rPr>
              <a:t>Y ardo en deseos de tu paz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6" dur="5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0" dur="5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158760" y="-171360"/>
            <a:ext cx="9626760" cy="7219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2733840" y="4994280"/>
            <a:ext cx="414324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¡Tarde te amé!</a:t>
            </a:r>
            <a:endParaRPr b="1" i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8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-108000" y="-171360"/>
            <a:ext cx="9626760" cy="721980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6" dur="5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705960" cy="721368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2" dur="5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-252360" y="-119160"/>
            <a:ext cx="9626400" cy="7220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148360" y="44280"/>
            <a:ext cx="4032000" cy="3961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95280" y="5229360"/>
            <a:ext cx="6657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arde te amé</a:t>
            </a:r>
            <a:endParaRPr b="1" i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7451640" y="6237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PPSh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24000" y="260280"/>
            <a:ext cx="1944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advTm="12000"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5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796320" cy="7216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42920" y="260280"/>
            <a:ext cx="63007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GUSTÍN DE HIPONA</a:t>
            </a:r>
            <a:endParaRPr b="1" i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8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26400" cy="722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908600" y="4797360"/>
            <a:ext cx="369576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¡Tarde te amé!</a:t>
            </a:r>
            <a:endParaRPr b="1" i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8000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5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26400" cy="7213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324000" y="3933720"/>
            <a:ext cx="4209840" cy="27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elleza tan antigua </a:t>
            </a:r>
            <a:endParaRPr b="1" i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y tan nueva...</a:t>
            </a:r>
            <a:endParaRPr b="1" i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8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5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95280" y="4869000"/>
            <a:ext cx="369576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¡Tarde te amé!</a:t>
            </a:r>
            <a:endParaRPr b="1" i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8000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5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26400" cy="722016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-108000" y="-27000"/>
            <a:ext cx="4464000" cy="3311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60278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cc"/>
                </a:solidFill>
                <a:latin typeface="Arial Black"/>
              </a:rPr>
              <a:t>Tú estabas dentro de mí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5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626760" cy="7219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32720" y="44280"/>
            <a:ext cx="2411280" cy="3456000"/>
          </a:xfrm>
          <a:custGeom>
            <a:avLst/>
            <a:gdLst>
              <a:gd name="textAreaLeft" fmla="*/ 117720 w 2411280"/>
              <a:gd name="textAreaRight" fmla="*/ 2293560 w 2411280"/>
              <a:gd name="textAreaTop" fmla="*/ 117720 h 3456000"/>
              <a:gd name="textAreaBottom" fmla="*/ 3338280 h 3456000"/>
            </a:gdLst>
            <a:ahLst/>
            <a:rect l="textAreaLeft" t="textAreaTop" r="textAreaRight" b="textAreaBottom"/>
            <a:pathLst>
              <a:path w="21600" h="30957">
                <a:moveTo>
                  <a:pt x="3600" y="0"/>
                </a:moveTo>
                <a:arcTo wR="3600" hR="3600" stAng="16200000" swAng="-5400000"/>
                <a:lnTo>
                  <a:pt x="0" y="27357"/>
                </a:lnTo>
                <a:arcTo wR="3600" hR="3600" stAng="10800000" swAng="-5400000"/>
                <a:lnTo>
                  <a:pt x="18000" y="30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602136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cc"/>
                </a:solidFill>
                <a:latin typeface="Arial Black"/>
              </a:rPr>
              <a:t>Yo estaba fuera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5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0:32:51Z</dcterms:created>
  <dc:creator>JSHV</dc:creator>
  <dc:description/>
  <dc:language>en-US</dc:language>
  <cp:lastModifiedBy>JSHV</cp:lastModifiedBy>
  <dcterms:modified xsi:type="dcterms:W3CDTF">2011-09-06T20:45:03Z</dcterms:modified>
  <cp:revision>12</cp:revision>
  <dc:subject/>
  <dc:title>Diapositiva 1</dc:title>
</cp:coreProperties>
</file>