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ndre%20Kostelanetz%20132s.wav" ContentType="audio/x-wav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Andre%20Kostelanetz%20DP%20170s.wav" ContentType="audio/x-wav"/>
  <Override PartName="/ppt/media/image23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263-3479-45E9-8D38-CFE2BAB2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DB9F-D9C1-4A6E-81B7-AD5275F8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9DFB-E258-4653-86E1-A9538E49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1896-F150-4F57-9BBE-F421AA87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7A9-AD3A-402A-82A3-866F6C3D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630-D341-4DDA-BC30-8CF2131B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1AAA-CFCF-40EA-B884-CA86114D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066-A9CF-41A6-A3FE-097C9A68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B2E-423C-4A3F-98AC-5E423AF0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2E7-65A6-4190-9F7B-2791CE36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1996-341D-4E52-BDFD-E2DF3824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11B-72E2-454D-9F8F-1960167D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CB19-0C69-478A-B208-865BD039F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dre%20Kostelanetz%20DP%20170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Andre%20Kostelanetz%20132s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807840" cy="7202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14520" y="549360"/>
            <a:ext cx="7914960" cy="57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AN AGUSTÍN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Y LA 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MISTAD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7667640" y="62848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PP</a:t>
            </a:r>
            <a:r>
              <a:rPr b="1" i="1" lang="es-ES" sz="2400" spc="-1" strike="noStrike">
                <a:solidFill>
                  <a:srgbClr val="009999"/>
                </a:solidFill>
                <a:latin typeface="Arial"/>
              </a:rPr>
              <a:t>Sh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  <p:sndAc>
      <p:stSnd>
        <p:snd r:embed="rId2" name="Andre%20Kostelanetz%20DP%20170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5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9640" cy="7205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11280" y="476280"/>
            <a:ext cx="792144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isfrutaba con un montón de detal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lo que podemos llama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8680" y="5950080"/>
            <a:ext cx="848664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stos, delicias de la amistad: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8000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5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55640" y="58831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harlar y reír junt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4000" y="60278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estarnos atenciones unos a otr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5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25800" y="4067280"/>
            <a:ext cx="698328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Comunicarn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ecret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guardarl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con fidelid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5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96720" y="-171360"/>
            <a:ext cx="9969480" cy="7210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50920" y="53341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Leer y comentar en común libros amen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5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24000" y="-100080"/>
            <a:ext cx="9792000" cy="7270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4000" y="404640"/>
            <a:ext cx="842472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sistir juntos a espectácu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que nos entusiasmab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y enardecí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10032840" cy="7947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79280" y="4149720"/>
            <a:ext cx="7848720" cy="22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Tomarnos br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un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a o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sin molestarn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396720" y="-171360"/>
            <a:ext cx="9713880" cy="7219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5570640"/>
            <a:ext cx="88200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Discutir a vece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pero sin guardarnos renc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5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739440" cy="7211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589608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Sentir nostalgia de los ausen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5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230040" y="-262080"/>
            <a:ext cx="9626400" cy="7220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58118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Organizar una fiesta a su regres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807840" cy="720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56000" y="836640"/>
            <a:ext cx="3888000" cy="3816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81080" y="5892840"/>
            <a:ext cx="6981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y AGUSTÍN de Tagaste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8000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5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15600" cy="7212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5280" y="5661000"/>
            <a:ext cx="828036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xpresarnos espontánea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n el corazón en la ma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81080" y="-100080"/>
            <a:ext cx="9626760" cy="7220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2205000"/>
            <a:ext cx="8497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99"/>
                </a:solidFill>
                <a:latin typeface="Arial"/>
              </a:rPr>
              <a:t>Correspond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99"/>
                </a:solidFill>
                <a:latin typeface="Arial"/>
              </a:rPr>
              <a:t>de maner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99"/>
                </a:solidFill>
                <a:latin typeface="Arial"/>
              </a:rPr>
              <a:t>generosa y solidari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99"/>
                </a:solidFill>
                <a:latin typeface="Arial"/>
              </a:rPr>
              <a:t>a los gesto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99"/>
                </a:solidFill>
                <a:latin typeface="Arial"/>
              </a:rPr>
              <a:t>de afect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  <p:sndAc>
      <p:stSnd>
        <p:snd r:embed="rId2" name="Andre%20Kostelanetz%20132s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5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24000" y="-100080"/>
            <a:ext cx="9796680" cy="7216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5641920"/>
            <a:ext cx="8353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Esforzarnos por ser posi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unos con otr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649080" cy="7207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844640"/>
            <a:ext cx="4608720" cy="4608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476280"/>
            <a:ext cx="849780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Resumo mi pensamie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en estos lem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5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181080" y="-19044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900000" y="3141720"/>
            <a:ext cx="7229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mistad viene de amor.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8000">
    <p:zoom dir="ou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5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528480" y="3076560"/>
            <a:ext cx="8087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adie puede vivir sin amigos.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6012000" y="3789360"/>
            <a:ext cx="3132000" cy="3068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5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324000" y="333360"/>
            <a:ext cx="59245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andadura del alma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s el amor.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8000"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9" dur="5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100160" y="2724120"/>
            <a:ext cx="69436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amistad es una fiesta.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spliega las alas.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8000">
    <p:zoom dir="ou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5" dur="5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324000" y="2724120"/>
            <a:ext cx="84247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ay compañeros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 te pueden meter en conflictos.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8000">
    <p:zoom dir="ou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5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862280" y="4581360"/>
            <a:ext cx="54194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verdadera amistad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 tiene precio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s gratuita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8000">
    <p:zoom dir="ou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5" dur="5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705960" cy="7213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16360" y="289080"/>
            <a:ext cx="4248360" cy="5445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140440"/>
            <a:ext cx="896472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unque el dato no es importan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ací al norte de África, el año 35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is padres se llamaron Patricio y Món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5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3520" cy="7211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2376360" y="476280"/>
            <a:ext cx="4391280" cy="40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SÚS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s un amigo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 nunca falla.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8000"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5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-252360" y="-39600"/>
            <a:ext cx="9626400" cy="7213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468360" y="333360"/>
            <a:ext cx="8280360" cy="612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AN AGUSTÍN</a:t>
            </a:r>
            <a:endParaRPr b="1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Y LA AMISTAD</a:t>
            </a:r>
            <a:endParaRPr b="1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67640" y="623736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PPSh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781440" y="2838600"/>
            <a:ext cx="1581120" cy="11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IN</a:t>
            </a:r>
            <a:endParaRPr b="1" i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8000">
    <p:zoom dir="ou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6" dur="5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84360" y="3068640"/>
            <a:ext cx="5543640" cy="3816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26080"/>
            <a:ext cx="8569080" cy="9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Fui ‘ciudadano romano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Y estaba orgulloso de ser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5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96720" y="-171360"/>
            <a:ext cx="9864720" cy="7211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5183280"/>
            <a:ext cx="849600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El deseo de amar lo sentía en 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omo un tatuaj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omo la marca de “pertenencia a Dios”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1125360"/>
            <a:ext cx="4104000" cy="3959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5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34680" cy="7203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76360" y="1268280"/>
            <a:ext cx="6335640" cy="431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676840"/>
            <a:ext cx="835344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33"/>
                </a:solidFill>
                <a:latin typeface="Arial"/>
              </a:rPr>
              <a:t>AMAR Y SER AM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33"/>
                </a:solidFill>
                <a:latin typeface="Arial"/>
              </a:rPr>
              <a:t>era lo que más me deleitaba y ennoblec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5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24000" y="-109440"/>
            <a:ext cx="9649080" cy="7210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124000" y="189000"/>
            <a:ext cx="4753080" cy="360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3611520"/>
            <a:ext cx="835164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Descubrí muy pron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la necesidad de tener amig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 me esforcé por viv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con entusiasmo y en plenitu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la amist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5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24000" y="-127080"/>
            <a:ext cx="9782280" cy="7228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4000" y="4965840"/>
            <a:ext cx="849600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En compañía de los ami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disfrutaba a tope de la vid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porque la amistad es expansiv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3520" cy="7211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5280" y="5140440"/>
            <a:ext cx="842472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autivo de la amistad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e parecía apasiona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ompartir con los amig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5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20:41:51Z</dcterms:created>
  <dc:creator>JSHV</dc:creator>
  <dc:description/>
  <dc:language>en-US</dc:language>
  <cp:lastModifiedBy>JSHV</cp:lastModifiedBy>
  <dcterms:modified xsi:type="dcterms:W3CDTF">2011-11-19T15:19:51Z</dcterms:modified>
  <cp:revision>13</cp:revision>
  <dc:subject/>
  <dc:title>Diapositiva 1</dc:title>
</cp:coreProperties>
</file>