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Andre%20Kostelanetz%20DP%20170s.wav" ContentType="audio/x-wav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Andre%20Kostelanetz%20132s.wav" ContentType="audio/x-wav"/>
  <Override PartName="/ppt/media/image35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A903-07EE-4BDB-B93C-4B2C536C0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7F37-10B1-450E-984D-7D60CE458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3834-29A2-4A16-B186-9FAA31894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94F8-B164-413E-8EF7-539A153E7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24FA-A9CB-41ED-8DCF-7C879B42F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4368-A77B-4D35-9266-A52F13CF5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13C5-39C3-4FD9-8878-CA4C0CBF3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5588-D20A-4C9F-B27E-85589C894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2EAA-494A-4374-BC28-D6718B4CF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5262-58E7-433C-A326-5935B30D7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CC16-DAAA-45B2-90F4-52F96B5BE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CE11-453A-48A8-9B85-1E30FCFAF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CFBC0-601F-4DE7-B099-ED1EDB3E74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ndre%20Kostelanetz%20132s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Andre%20Kostelanetz%20DP%20170s.wav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692360" y="333360"/>
            <a:ext cx="5832360" cy="23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LA MIRADA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732720" y="609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66"/>
                </a:solidFill>
                <a:latin typeface="Arial Black"/>
              </a:rPr>
              <a:t> </a:t>
            </a:r>
            <a:r>
              <a:rPr b="1" i="1" lang="es-ES" sz="2800" spc="-1" strike="noStrike">
                <a:solidFill>
                  <a:srgbClr val="ff0066"/>
                </a:solidFill>
                <a:latin typeface="Arial Black"/>
              </a:rPr>
              <a:t>PPSh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252360" y="-100080"/>
            <a:ext cx="9626400" cy="7220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1332000" y="4581360"/>
            <a:ext cx="6334200" cy="172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A MIRADA</a:t>
            </a:r>
            <a:endParaRPr b="1" i="1" lang="en-US" sz="8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7" name=""/>
          <p:cNvSpPr/>
          <p:nvPr/>
        </p:nvSpPr>
        <p:spPr>
          <a:xfrm>
            <a:off x="7451640" y="6237360"/>
            <a:ext cx="16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6600"/>
                </a:solidFill>
                <a:latin typeface="Arial Black"/>
              </a:rPr>
              <a:t>PPSh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wheel spokes="1"/>
    <p:sndAc>
      <p:stSnd>
        <p:snd r:embed="rId2" name="Andre%20Kostelanetz%20132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-181080" y="-171360"/>
            <a:ext cx="9626760" cy="72198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50920" y="4797360"/>
            <a:ext cx="8064360" cy="17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Arial Black"/>
              </a:rPr>
              <a:t>Ojos claros, sereno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Arial Black"/>
              </a:rPr>
              <a:t>si de un dulce mirar sois alabado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Arial Black"/>
              </a:rPr>
              <a:t>¿por qué, si me mirái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Arial Black"/>
              </a:rPr>
              <a:t>miráis airad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-252360" y="-171360"/>
            <a:ext cx="9648720" cy="74134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0" y="4797360"/>
            <a:ext cx="8820000" cy="17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Arial Black"/>
              </a:rPr>
              <a:t>Tus ojos no miran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Arial Black"/>
              </a:rPr>
              <a:t>tus ojos no v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Arial Black"/>
              </a:rPr>
              <a:t>Eres tú el que mi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Arial Black"/>
              </a:rPr>
              <a:t>y el que ve con tus oj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wheel spokes="1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" dur="3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7" dur="3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8" dur="3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0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1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2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3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-252360" y="-171360"/>
            <a:ext cx="9651960" cy="72309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wheel spokes="1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9" dur="5000" fill="hold"/>
                                        <p:tgtEl>
                                          <p:spTgt spid="8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-324000" y="-171360"/>
            <a:ext cx="9842760" cy="73771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-181080" y="0"/>
            <a:ext cx="9504360" cy="69073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wheel spokes="1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" dur="2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86" dur="2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7" dur="2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9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0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3" dur="5000" fill="hold"/>
                                        <p:tgtEl>
                                          <p:spTgt spid="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-181080" y="-171360"/>
            <a:ext cx="9626760" cy="72198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84360" y="6005520"/>
            <a:ext cx="77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Arial Black"/>
              </a:rPr>
              <a:t>Saber mirar es saber am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wheel spokes="1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252360" y="-171360"/>
            <a:ext cx="9623520" cy="72118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50920" y="6005520"/>
            <a:ext cx="75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Arial Black"/>
              </a:rPr>
              <a:t>¡Hay miradas que mata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wheel spokes="1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9" dur="5000" fill="hold"/>
                                        <p:tgtEl>
                                          <p:spTgt spid="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204840" y="-166680"/>
            <a:ext cx="9601200" cy="71960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wheel spokes="1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-252360" y="-171360"/>
            <a:ext cx="9626400" cy="72198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50920" y="2930400"/>
            <a:ext cx="5975280" cy="22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Arial Black"/>
              </a:rPr>
              <a:t>Cua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Arial Black"/>
              </a:rPr>
              <a:t>se ha llo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Arial Black"/>
              </a:rPr>
              <a:t>much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Arial Black"/>
              </a:rPr>
              <a:t>los o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Arial Black"/>
              </a:rPr>
              <a:t>quedan limp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wheel spokes="1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1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0" dur="1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1" dur="1000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2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-181080" y="-119160"/>
            <a:ext cx="9626760" cy="72201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826920" y="5707080"/>
            <a:ext cx="7490160" cy="8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Arial Black"/>
              </a:rPr>
              <a:t>Lo mejor de mi tier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Arial Black"/>
              </a:rPr>
              <a:t>son los ojos de los niñ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wheel spokes="1"/>
    <p:sndAc>
      <p:stSnd>
        <p:snd r:embed="rId2" name="Andre%20Kostelanetz%20DP%20170s.wav"/>
      </p:stSnd>
    </p:sndAc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8" dur="5000" fill="hold"/>
                                        <p:tgtEl>
                                          <p:spTgt spid="1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-181080" y="-100080"/>
            <a:ext cx="9626760" cy="72201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36360" y="-316080"/>
            <a:ext cx="9399600" cy="742968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wheel spokes="1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" dur="5000" fill="hold"/>
                                        <p:tgtEl>
                                          <p:spTgt spid="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-324000" y="-243000"/>
            <a:ext cx="9890280" cy="74138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684360" y="60786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Arial Black"/>
              </a:rPr>
              <a:t>Ojos que no ven, corazón que no si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wheel spokes="1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-252360" y="-100080"/>
            <a:ext cx="9648720" cy="72309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wheel spokes="1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-181080" y="-100080"/>
            <a:ext cx="9626760" cy="72201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24000" y="5237280"/>
            <a:ext cx="7777080" cy="13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Arial Black"/>
              </a:rPr>
              <a:t>Me has robado el corazó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Arial Black"/>
              </a:rPr>
              <a:t>hermana y esposa mía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Arial Black"/>
              </a:rPr>
              <a:t>con una sola mirada de tus oj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wheel spokes="1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4" dur="5000" fill="hold"/>
                                        <p:tgtEl>
                                          <p:spTgt spid="1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-181080" y="-171360"/>
            <a:ext cx="9626760" cy="72198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wheel spokes="1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0" dur="5000" fill="hold"/>
                                        <p:tgtEl>
                                          <p:spTgt spid="1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-181080" y="-171360"/>
            <a:ext cx="9626760" cy="72198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755640" y="3789360"/>
            <a:ext cx="691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5280" y="4695840"/>
            <a:ext cx="6337440" cy="17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Arial Black"/>
              </a:rPr>
              <a:t>Mir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Arial Black"/>
              </a:rPr>
              <a:t>benévo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Arial Black"/>
              </a:rPr>
              <a:t>aleg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Arial Black"/>
              </a:rPr>
              <a:t>el coraz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wheel spokes="1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-252360" y="-100080"/>
            <a:ext cx="9626400" cy="72201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wheel spokes="1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4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4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1" dur="1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2" dur="1000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3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-252360" y="-171360"/>
            <a:ext cx="9626400" cy="72198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wheel spokes="1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9" dur="2000" fill="hold"/>
                                        <p:tgtEl>
                                          <p:spTgt spid="13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-252360" y="-171360"/>
            <a:ext cx="9626400" cy="72118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95280" y="4226040"/>
            <a:ext cx="7128000" cy="22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Arial Black"/>
              </a:rPr>
              <a:t>T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Arial Black"/>
              </a:rPr>
              <a:t>mir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Arial Black"/>
              </a:rPr>
              <a:t>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Arial Black"/>
              </a:rPr>
              <a:t>el espe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Arial Black"/>
              </a:rPr>
              <a:t>del al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wheel spokes="1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5" dur="5000" fill="hold"/>
                                        <p:tgtEl>
                                          <p:spTgt spid="14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7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4" dur="1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5" dur="1000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6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-252360" y="-109440"/>
            <a:ext cx="9623520" cy="72104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wheel spokes="1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9640" y="5237280"/>
            <a:ext cx="7920000" cy="13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Arial Black"/>
              </a:rPr>
              <a:t>La lámpara del cuerpo es el oj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Arial Black"/>
              </a:rPr>
              <a:t>Si el ojo está clar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Arial Black"/>
              </a:rPr>
              <a:t>todo tu cuerpo estará en la lu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-181080" y="-100080"/>
            <a:ext cx="9626760" cy="72201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95280" y="5237280"/>
            <a:ext cx="8424720" cy="13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Arial Black"/>
              </a:rPr>
              <a:t>La lámpara del cuerpo es el oj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Arial Black"/>
              </a:rPr>
              <a:t>Si el ojo está claro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Arial Black"/>
              </a:rPr>
              <a:t>todo tu cuerpo estará en la lu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wheel spokes="1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2" dur="5000" fill="hold"/>
                                        <p:tgtEl>
                                          <p:spTgt spid="1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252360" y="-171360"/>
            <a:ext cx="9626400" cy="72198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wheel spokes="1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" dur="5000" fill="hold"/>
                                        <p:tgtEl>
                                          <p:spTgt spid="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-252360" y="-100080"/>
            <a:ext cx="9626400" cy="72201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79280" y="1916280"/>
            <a:ext cx="4824360" cy="46814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wheel spokes="1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3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5" dur="5000" fill="hold"/>
                                        <p:tgtEl>
                                          <p:spTgt spid="1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9" dur="3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00" dur="3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01" dur="3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2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3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4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5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6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-252360" y="-171360"/>
            <a:ext cx="9626400" cy="72198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wheel spokes="1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2" dur="5000" fill="hold"/>
                                        <p:tgtEl>
                                          <p:spTgt spid="1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-324000" y="-171360"/>
            <a:ext cx="9796680" cy="73436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 txBox="1"/>
          <p:nvPr/>
        </p:nvSpPr>
        <p:spPr>
          <a:xfrm>
            <a:off x="1979640" y="476280"/>
            <a:ext cx="51134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LA MIRADA</a:t>
            </a:r>
            <a:endParaRPr b="1" i="1" lang="en-US" sz="4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68360" y="3716280"/>
            <a:ext cx="388764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FIN</a:t>
            </a:r>
            <a:endParaRPr b="1" i="1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020000" y="600552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6600"/>
                </a:solidFill>
                <a:latin typeface="Arial Black"/>
              </a:rPr>
              <a:t>   </a:t>
            </a:r>
            <a:r>
              <a:rPr b="1" i="1" lang="es-ES" sz="2800" spc="-1" strike="noStrike">
                <a:solidFill>
                  <a:srgbClr val="006600"/>
                </a:solidFill>
                <a:latin typeface="Arial Black"/>
              </a:rPr>
              <a:t>PP</a:t>
            </a:r>
            <a:r>
              <a:rPr b="1" i="1" lang="es-ES" sz="2800" spc="-1" strike="noStrike">
                <a:solidFill>
                  <a:srgbClr val="ffff00"/>
                </a:solidFill>
                <a:latin typeface="Arial Black"/>
              </a:rPr>
              <a:t>Sh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wheel spokes="1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8" dur="5000" fill="hold"/>
                                        <p:tgtEl>
                                          <p:spTgt spid="1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-252360" y="-100080"/>
            <a:ext cx="9626400" cy="722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95280" y="404640"/>
            <a:ext cx="8353440" cy="13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 Black"/>
              </a:rPr>
              <a:t>Quien no comprende una mir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 Black"/>
              </a:rPr>
              <a:t>tampoco comprender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 Black"/>
              </a:rPr>
              <a:t>una larga explicación </a:t>
            </a:r>
            <a:r>
              <a:rPr b="1" i="1" lang="en-US" sz="2000" spc="-1" strike="noStrike">
                <a:solidFill>
                  <a:srgbClr val="000000"/>
                </a:solidFill>
                <a:latin typeface="Arial Black"/>
              </a:rPr>
              <a:t>(Proverbi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wheel spokes="1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" dur="5000" fill="hold"/>
                                        <p:tgtEl>
                                          <p:spTgt spid="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-181080" y="-100080"/>
            <a:ext cx="9626760" cy="72201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900000" y="600552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Arial Black"/>
              </a:rPr>
              <a:t>Miradas limpias, limpian miran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wheel spokes="1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" dur="1000" autoRev="1" fill="hold"/>
                                        <p:tgtEl>
                                          <p:spTgt spid="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-181080" y="-171360"/>
            <a:ext cx="9626760" cy="721188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-181080" y="-171360"/>
            <a:ext cx="9626760" cy="72198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24000" y="4695840"/>
            <a:ext cx="7775280" cy="17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Arial Black"/>
              </a:rPr>
              <a:t>Mis ojos, mis pobres ojo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Arial Black"/>
              </a:rPr>
              <a:t>que acaban de desper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Arial Black"/>
              </a:rPr>
              <a:t>los hiciste para v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Arial Black"/>
              </a:rPr>
              <a:t>no sólo para llor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wheel spokes="1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" dur="1000" autoRev="1" fill="hold"/>
                                        <p:tgtEl>
                                          <p:spTgt spid="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" dur="5000" fill="hold"/>
                                        <p:tgtEl>
                                          <p:spTgt spid="6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-252360" y="-171360"/>
            <a:ext cx="9626400" cy="72198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3789360"/>
            <a:ext cx="4211640" cy="30686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wheel spokes="1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4" dur="1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5" dur="1000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6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" dur="5000" fill="hold"/>
                                        <p:tgtEl>
                                          <p:spTgt spid="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-252360" y="-171360"/>
            <a:ext cx="9601200" cy="71960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2T11:21:49Z</dcterms:created>
  <dc:creator>JSHV</dc:creator>
  <dc:description/>
  <dc:language>en-US</dc:language>
  <cp:lastModifiedBy>JSHV</cp:lastModifiedBy>
  <dcterms:modified xsi:type="dcterms:W3CDTF">2011-02-09T14:31:43Z</dcterms:modified>
  <cp:revision>16</cp:revision>
  <dc:subject/>
  <dc:title>Diapositiva 1</dc:title>
</cp:coreProperties>
</file>