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Coloquio%20de%20amor%20233s.wav" ContentType="audio/x-wav"/>
  <Override PartName="/ppt/media/image18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DF0-023F-45F4-B817-B6305FDF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79B-3900-4496-BBD7-18A87D3C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3CCB-62C8-4415-BA0B-80833C24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1C5-5273-49A5-8C5E-72CAEB7C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D72-A5A9-4C60-96A5-FF98BBA8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016-570F-444E-BA1C-A1ED67FF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3C8-8BD3-439D-AE53-1E09A3E6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1AA-663B-4DF1-9081-3DE8DCC4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273-5930-4E87-A51B-D1DB24E3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07E-F0EC-46C1-995B-1D416388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CF7-46FD-4087-894C-9D46D151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123-54AE-43E1-9D7D-0770BD50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3AC8-0769-4C9F-8D93-0CBC44306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loquio%20de%20amor%20233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19240" y="-176040"/>
            <a:ext cx="9615600" cy="720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39640" y="115920"/>
            <a:ext cx="5761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GUSTINIDAD</a:t>
            </a:r>
            <a:endParaRPr b="1" i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7236000" y="6093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i="1" lang="es-ES" sz="2400" spc="-1" strike="noStrike">
                <a:solidFill>
                  <a:srgbClr val="99cc00"/>
                </a:solidFill>
                <a:latin typeface="Arial"/>
              </a:rPr>
              <a:t>PPS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  <p:sndAc>
      <p:stSnd>
        <p:snd r:embed="rId2" name="Coloquio%20de%20amor%20233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24000" y="-247680"/>
            <a:ext cx="9936360" cy="7205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1384200"/>
            <a:ext cx="7993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D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LA PATR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D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LM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5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4360" y="3357720"/>
            <a:ext cx="7993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La andad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del al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es el am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087640" cy="2879640"/>
          </a:xfrm>
          <a:custGeom>
            <a:avLst/>
            <a:gdLst>
              <a:gd name="textAreaLeft" fmla="*/ 101880 w 2087640"/>
              <a:gd name="textAreaRight" fmla="*/ 1985760 w 2087640"/>
              <a:gd name="textAreaTop" fmla="*/ 101880 h 2879640"/>
              <a:gd name="textAreaBottom" fmla="*/ 2777760 h 287964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4360" y="3645000"/>
            <a:ext cx="7991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GRA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 VI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SPECTO AL AMO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5280" y="1157400"/>
            <a:ext cx="8280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Pen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Medi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Recor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Practi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Cumpl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5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280" y="404640"/>
            <a:ext cx="414036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En la vid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en todo tiem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y luga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ten ami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o búscal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2924280"/>
            <a:ext cx="8064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El mejor elogio del am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es és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DIOS ES AM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181080" y="-119160"/>
            <a:ext cx="9626760" cy="7220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4360" y="2421000"/>
            <a:ext cx="7920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Sólo se a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lo que se cono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uede abrazar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5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1374840"/>
            <a:ext cx="86421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El am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una llama inquiet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no pue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estarse para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0" y="0"/>
            <a:ext cx="2233440" cy="3068640"/>
          </a:xfrm>
          <a:custGeom>
            <a:avLst/>
            <a:gdLst>
              <a:gd name="textAreaLeft" fmla="*/ 108720 w 2233440"/>
              <a:gd name="textAreaRight" fmla="*/ 2124720 w 2233440"/>
              <a:gd name="textAreaTop" fmla="*/ 108720 h 3068640"/>
              <a:gd name="textAreaBottom" fmla="*/ 2959920 h 3068640"/>
            </a:gdLst>
            <a:ahLst/>
            <a:rect l="textAreaLeft" t="textAreaTop" r="textAreaRight" b="textAreaBottom"/>
            <a:pathLst>
              <a:path w="21600" h="29676">
                <a:moveTo>
                  <a:pt x="3600" y="0"/>
                </a:moveTo>
                <a:arcTo wR="3600" hR="3600" stAng="16200000" swAng="-5400000"/>
                <a:lnTo>
                  <a:pt x="0" y="26076"/>
                </a:lnTo>
                <a:arcTo wR="3600" hR="3600" stAng="10800000" swAng="-5400000"/>
                <a:lnTo>
                  <a:pt x="18000" y="29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5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1280" y="1413000"/>
            <a:ext cx="7921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LA BELLEZ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L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EL AM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476280"/>
            <a:ext cx="806472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Feliz el que te ama a t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al amigo en 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y al enemigo por 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5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6360" y="-187200"/>
            <a:ext cx="9324720" cy="7216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5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219240" y="-176040"/>
            <a:ext cx="9615600" cy="7205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5280" y="3141720"/>
            <a:ext cx="813600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La oración 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el afectuoso alarg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del espírit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hacia Di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5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4360" y="2276640"/>
            <a:ext cx="784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No te desparra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Concéntrate en tu intimidad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5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252360" y="-189000"/>
            <a:ext cx="9648720" cy="7218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5640" y="4653000"/>
            <a:ext cx="7561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a verdad resi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 el hombre interi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260280"/>
            <a:ext cx="3600720" cy="3529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5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147600" y="-176040"/>
            <a:ext cx="9615600" cy="7205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58920" y="404640"/>
            <a:ext cx="6626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JOVE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alimenta tus al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24000" y="-176040"/>
            <a:ext cx="10009440" cy="7205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936720" y="5805360"/>
            <a:ext cx="7667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ma y haz lo que quieras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81080" y="-176040"/>
            <a:ext cx="9615600" cy="7205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11280" y="3645000"/>
            <a:ext cx="8064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mi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or el homb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y llegarás a Di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5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252360" y="-19044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8360" y="1832040"/>
            <a:ext cx="8136000" cy="45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Es mej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un coj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p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la senda rec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que un corred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p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el mal cami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7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7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8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4005360"/>
            <a:ext cx="842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Más vale amar con severidad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que engañar con dulzu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5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181080" y="-104760"/>
            <a:ext cx="9615600" cy="7205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5013360"/>
            <a:ext cx="828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a medida del am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s el amor sin medi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00360" y="1197000"/>
            <a:ext cx="3816360" cy="3816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5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5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252360" y="-104760"/>
            <a:ext cx="9723240" cy="7205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84360" y="333360"/>
            <a:ext cx="799128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Los hombres salen a hacer tur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y sin emb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e pasan de largo a sí mismo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no hacen turismo interi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076640"/>
            <a:ext cx="2843280" cy="2781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24000" y="-100080"/>
            <a:ext cx="9626760" cy="722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4365720"/>
            <a:ext cx="828036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ombre so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tre hombres viv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Y nada de lo humano me es aje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626760" cy="7220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4360" y="4581360"/>
            <a:ext cx="79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LA VERD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ES PATRIMONIO DE TOD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3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-252360" y="-4608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8360" y="2349360"/>
            <a:ext cx="8064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99"/>
                </a:solidFill>
                <a:latin typeface="Arial"/>
              </a:rPr>
              <a:t>Vivid tod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99"/>
                </a:solidFill>
                <a:latin typeface="Arial"/>
              </a:rPr>
              <a:t>unánim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99"/>
                </a:solidFill>
                <a:latin typeface="Arial"/>
              </a:rPr>
              <a:t>con un solo corazó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99"/>
                </a:solidFill>
                <a:latin typeface="Arial"/>
              </a:rPr>
              <a:t>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99"/>
                </a:solidFill>
                <a:latin typeface="Arial"/>
              </a:rPr>
              <a:t>una sola alm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5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324000" y="4149720"/>
            <a:ext cx="32400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61657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PPS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252360" y="-182520"/>
            <a:ext cx="9648720" cy="7211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790720"/>
            <a:ext cx="914400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Nos has hech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eñ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ara t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y nuestro coraz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stá inquie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asta que descanse en 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80" y="476280"/>
            <a:ext cx="2556000" cy="2592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5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147600" y="-176040"/>
            <a:ext cx="9615600" cy="7205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1280" y="476280"/>
            <a:ext cx="8137440" cy="59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El verdadero hon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del ho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consiste en ser imagen de Di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5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219240" y="-247680"/>
            <a:ext cx="9615600" cy="7205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3195720"/>
            <a:ext cx="8424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La búsque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e D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s la búsque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e la felicidad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5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81080" y="-119160"/>
            <a:ext cx="9626760" cy="722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3195720"/>
            <a:ext cx="8496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y el encuentr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 D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la felicidad mis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626760" cy="722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404640"/>
            <a:ext cx="820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ntra en ti mism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xamína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úzg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8360" y="3500280"/>
            <a:ext cx="8280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ra encontrar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n D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s necesario el silen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5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11:33:02Z</dcterms:created>
  <dc:creator>JSHV</dc:creator>
  <dc:description/>
  <dc:language>en-US</dc:language>
  <cp:lastModifiedBy>JSHV</cp:lastModifiedBy>
  <dcterms:modified xsi:type="dcterms:W3CDTF">2011-01-24T18:17:33Z</dcterms:modified>
  <cp:revision>8</cp:revision>
  <dc:subject/>
  <dc:title>Diapositiva 1</dc:title>
</cp:coreProperties>
</file>