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8.jpeg" ContentType="image/jpeg"/>
  <Override PartName="/ppt/media/Angelus%20263s.wav" ContentType="audio/x-wav"/>
  <Override PartName="/ppt/media/image5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4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C00-F285-4A27-9781-1EFA0B19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57E-D65A-4558-97EB-059FBFE0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2F0-1547-46FE-BB20-A8DDBF95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F13-2D3B-409D-AA5E-4B336A13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2C3-7B68-4EBA-BDAF-9F0B2DE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AFD-8D04-4BED-81CA-FF4465ED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2E3-0AFD-4BA4-8EA0-70F87EDF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A21-4F68-4CA9-8062-B1872C1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3B9-5CF5-4EE6-8248-235C1A97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AD7-4AA0-48A3-8915-E061020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768-5CC6-4557-B1B7-7CB3FFB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013-ECF4-4D0F-A525-8F86E5F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67C6-695C-4AC9-BE3D-618F55494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gelus%20263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87280" y="692280"/>
            <a:ext cx="6705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ARDE TE AMÉ</a:t>
            </a:r>
            <a:endParaRPr b="1" i="1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51640" y="63565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i="1" lang="es-ES" sz="2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1" i="1" lang="es-ES" sz="2400" spc="-1" strike="noStrike">
                <a:solidFill>
                  <a:srgbClr val="33cc33"/>
                </a:solidFill>
                <a:latin typeface="Arial Black"/>
              </a:rPr>
              <a:t>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3429000"/>
            <a:ext cx="3457440" cy="338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  <p:sndAc>
      <p:stSnd>
        <p:snd r:embed="rId3" name="Angelus%20263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16360" y="2997360"/>
            <a:ext cx="410364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fu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t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buscab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5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252360" y="-19044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627280" y="2995560"/>
            <a:ext cx="4465800" cy="3097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5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24000" y="-458640"/>
            <a:ext cx="9703080" cy="776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7640" y="838080"/>
            <a:ext cx="3348000" cy="489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08360" y="476280"/>
            <a:ext cx="511164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Co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un s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envilecid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me precipita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sob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la armon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de las cos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que T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has crea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81080" y="-169920"/>
            <a:ext cx="9699840" cy="7270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52360" y="-44280"/>
            <a:ext cx="9771120" cy="721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4211640"/>
            <a:ext cx="8642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Estabas conmigo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… </a:t>
            </a: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y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no estaba conti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3520" cy="7210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19640" y="4219560"/>
            <a:ext cx="3671640" cy="2449440"/>
          </a:xfrm>
          <a:custGeom>
            <a:avLst/>
            <a:gdLst>
              <a:gd name="textAreaLeft" fmla="*/ 838080 w 3671640"/>
              <a:gd name="textAreaRight" fmla="*/ 2833560 w 3671640"/>
              <a:gd name="textAreaTop" fmla="*/ 559080 h 2449440"/>
              <a:gd name="textAreaBottom" fmla="*/ 189036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-27000"/>
            <a:ext cx="1800360" cy="1700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5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34320" cy="722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89000"/>
            <a:ext cx="5040360" cy="345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849920"/>
            <a:ext cx="820872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vantGarde Bk BT"/>
              </a:rPr>
              <a:t>Me retenían lejos de Ti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vantGarde Bk BT"/>
              </a:rPr>
              <a:t>esas cosas que no existirí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vantGarde Bk BT"/>
              </a:rPr>
              <a:t>si no vivieran en 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5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122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268280"/>
            <a:ext cx="7201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Me llamast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me gritaste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romp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mi sorder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52360" y="-185760"/>
            <a:ext cx="9709200" cy="72151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40800" cy="723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-2756880" y="2766960"/>
            <a:ext cx="65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Poema: San Agust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3228840"/>
            <a:ext cx="496908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Brillast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resplandeci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disipa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mi cegu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252360" y="-11916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 rot="5400000">
            <a:off x="-1944000" y="2888280"/>
            <a:ext cx="612000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LUZ DEL MUNDO</a:t>
            </a:r>
            <a:endParaRPr b="1" i="1" lang="en-US" sz="4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2708280"/>
            <a:ext cx="2232000" cy="324000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3240000"/>
              <a:gd name="textAreaBottom" fmla="*/ 3131280 h 3240000"/>
            </a:gdLst>
            <a:ahLst/>
            <a:rect l="textAreaLeft" t="textAreaTop" r="textAreaRight" b="textAreaBottom"/>
            <a:pathLst>
              <a:path w="21600" h="31353">
                <a:moveTo>
                  <a:pt x="3600" y="0"/>
                </a:moveTo>
                <a:arcTo wR="3600" hR="3600" stAng="16200000" swAng="-5400000"/>
                <a:lnTo>
                  <a:pt x="0" y="27753"/>
                </a:lnTo>
                <a:arcTo wR="3600" hR="3600" stAng="10800000" swAng="-5400000"/>
                <a:lnTo>
                  <a:pt x="18000" y="31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688680" cy="720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404640"/>
            <a:ext cx="396108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Exhala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tus perfum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respiré hond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vantGarde Bk BT"/>
              </a:rPr>
              <a:t>suspiro por 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5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122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3520" cy="721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9280" y="189000"/>
            <a:ext cx="3313080" cy="2232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80000" y="620640"/>
            <a:ext cx="489564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Te prob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y tuve hambr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vantGarde Bk BT"/>
              </a:rPr>
              <a:t>tuve 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5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252360" y="-254160"/>
            <a:ext cx="9623520" cy="7212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8000" y="44280"/>
            <a:ext cx="4464000" cy="28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5541840"/>
            <a:ext cx="813600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Me has toc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y ardo en deseos de tu pa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5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181080" y="-187200"/>
            <a:ext cx="9623520" cy="7216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763640" y="476280"/>
            <a:ext cx="5448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¡Tarde te amé!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7000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3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252360" y="-119160"/>
            <a:ext cx="9583560" cy="7220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08720" y="3357720"/>
            <a:ext cx="2916000" cy="2852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6360" y="44280"/>
            <a:ext cx="3600360" cy="2664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5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3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44360" y="-109440"/>
            <a:ext cx="9540720" cy="72104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396720" y="-100080"/>
            <a:ext cx="9796320" cy="7209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900000" y="836640"/>
            <a:ext cx="61722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ARDE TE AMÉ</a:t>
            </a:r>
            <a:endParaRPr b="1" i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6243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vantGarde Bk BT"/>
              </a:rPr>
              <a:t> </a:t>
            </a:r>
            <a:r>
              <a:rPr b="1" i="1" lang="es-ES" sz="2800" spc="-1" strike="noStrike">
                <a:solidFill>
                  <a:srgbClr val="ffff00"/>
                </a:solidFill>
                <a:latin typeface="AvantGarde Bk BT"/>
              </a:rPr>
              <a:t>    </a:t>
            </a:r>
            <a:r>
              <a:rPr b="1" i="1" lang="es-ES" sz="2800" spc="-1" strike="noStrike">
                <a:solidFill>
                  <a:srgbClr val="ffff00"/>
                </a:solidFill>
                <a:latin typeface="AvantGarde Bk BT"/>
              </a:rPr>
              <a:t>PP</a:t>
            </a:r>
            <a:r>
              <a:rPr b="1" i="1" lang="es-ES" sz="2800" spc="-1" strike="noStrike">
                <a:solidFill>
                  <a:srgbClr val="ff0000"/>
                </a:solidFill>
                <a:latin typeface="AvantGarde Bk BT"/>
              </a:rPr>
              <a:t>Sh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5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641160" cy="7230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587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vantGarde Bk BT"/>
              </a:rPr>
              <a:t>¡TARDE TE AMÉ!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64000" y="549360"/>
            <a:ext cx="3238560" cy="324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53737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vantGarde Bk BT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AvantGarde Bk BT"/>
              </a:rPr>
              <a:t>BELLEZA TAN ANTIGUA Y TAN NUEVA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5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34320" cy="723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573408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vantGarde Bk BT"/>
              </a:rPr>
              <a:t>¡TARDE TE AMÉ!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052640"/>
            <a:ext cx="3744720" cy="36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5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508640"/>
            <a:ext cx="3059280" cy="2349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1080" y="0"/>
            <a:ext cx="3419280" cy="2492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27280" y="1050840"/>
            <a:ext cx="511344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vantGarde Bk BT"/>
              </a:rPr>
              <a:t>T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vantGarde Bk BT"/>
              </a:rPr>
              <a:t>estab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vantGarde Bk BT"/>
              </a:rPr>
              <a:t>d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vantGarde Bk BT"/>
              </a:rPr>
              <a:t>de mí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76280"/>
            <a:ext cx="406728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estab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vantGarde Bk BT"/>
              </a:rPr>
              <a:t>fuera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1:03:33Z</dcterms:created>
  <dc:creator>JSHV</dc:creator>
  <dc:description/>
  <dc:language>en-US</dc:language>
  <cp:lastModifiedBy>PROPIETARIO</cp:lastModifiedBy>
  <dcterms:modified xsi:type="dcterms:W3CDTF">2015-03-05T16:17:28Z</dcterms:modified>
  <cp:revision>16</cp:revision>
  <dc:subject/>
  <dc:title>Diapositiva 1</dc:title>
</cp:coreProperties>
</file>