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Envia%20tu%20Espiritu%20195s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E7F-BD98-4F75-A673-F13E87EA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09D-C497-42EF-A9A9-1CC18D7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008-BA58-487C-8CC7-45358FD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3FF-CE1E-4DAB-902B-3B954996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75A-1537-47B1-BE53-EC6A2D9F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7FB-2946-4AA8-8DFC-B748C0DB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55D-A115-4C11-92A1-C228F18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5D4-16E8-499A-8222-168742A7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B64-7AB8-4961-83F5-F7F1C192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4B1-7421-496E-AA8E-1520781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605-B357-4893-99DF-624297F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8B2-7C98-4D1A-8DBC-657E600F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299-2ED5-4566-BC82-5EE720FA7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via%20tu%20Espiritu%20195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Envia%20tu%20Espiritu%20195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360" y="-174600"/>
            <a:ext cx="9612360" cy="720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2421000"/>
            <a:ext cx="4103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GUSTINIDAD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6211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out"/>
    <p:sndAc>
      <p:stSnd>
        <p:snd r:embed="rId2" name="Envia%20tu%20Espiritu%20195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1280" y="-187200"/>
            <a:ext cx="9396360" cy="721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30040" y="-19044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52360" y="-11916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577440" cy="7223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73080" y="-46080"/>
            <a:ext cx="932508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96720" y="-100080"/>
            <a:ext cx="9634320" cy="720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81080" y="-255600"/>
            <a:ext cx="9626760" cy="7213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52360" y="-262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81080" y="-190440"/>
            <a:ext cx="962676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81080" y="-361800"/>
            <a:ext cx="962676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48720" cy="7228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577440" cy="722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12000" y="1916280"/>
            <a:ext cx="2736720" cy="475272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4752720"/>
              <a:gd name="textAreaBottom" fmla="*/ 4619160 h 4752720"/>
            </a:gdLst>
            <a:ahLst/>
            <a:rect l="textAreaLeft" t="textAreaTop" r="textAreaRight" b="textAreaBottom"/>
            <a:pathLst>
              <a:path w="21600" h="37510">
                <a:moveTo>
                  <a:pt x="3600" y="0"/>
                </a:moveTo>
                <a:arcTo wR="3600" hR="3600" stAng="16200000" swAng="-5400000"/>
                <a:lnTo>
                  <a:pt x="0" y="33910"/>
                </a:lnTo>
                <a:arcTo wR="3600" hR="3600" stAng="10800000" swAng="-5400000"/>
                <a:lnTo>
                  <a:pt x="18000" y="37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81080" y="-50760"/>
            <a:ext cx="9721800" cy="7224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5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  <p:sndAc>
      <p:stSnd>
        <p:snd r:embed="rId2" name="Envia%20tu%20Espiritu%20195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49080" cy="72216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626760" cy="722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8760" y="-185760"/>
            <a:ext cx="9626760" cy="7215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5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26880" y="-100080"/>
            <a:ext cx="9651960" cy="7234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33440" y="549360"/>
            <a:ext cx="1617480" cy="5616360"/>
          </a:xfrm>
          <a:custGeom>
            <a:avLst/>
            <a:gdLst>
              <a:gd name="textAreaLeft" fmla="*/ 78840 w 1617480"/>
              <a:gd name="textAreaRight" fmla="*/ 1538640 w 1617480"/>
              <a:gd name="textAreaTop" fmla="*/ 78840 h 5616360"/>
              <a:gd name="textAreaBottom" fmla="*/ 5537520 h 5616360"/>
            </a:gdLst>
            <a:ahLst/>
            <a:rect l="textAreaLeft" t="textAreaTop" r="textAreaRight" b="textAreaBottom"/>
            <a:pathLst>
              <a:path w="21600" h="74990">
                <a:moveTo>
                  <a:pt x="3600" y="0"/>
                </a:moveTo>
                <a:arcTo wR="3600" hR="3600" stAng="16200000" swAng="-5400000"/>
                <a:lnTo>
                  <a:pt x="0" y="71390"/>
                </a:lnTo>
                <a:arcTo wR="3600" hR="3600" stAng="10800000" swAng="-5400000"/>
                <a:lnTo>
                  <a:pt x="18000" y="749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15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81080" y="-181080"/>
            <a:ext cx="9623520" cy="7210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95280" y="4940280"/>
            <a:ext cx="3024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211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PP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5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433080" cy="7220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3640" y="620640"/>
            <a:ext cx="3024000" cy="2952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04840" y="-466560"/>
            <a:ext cx="9601200" cy="7495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48720" cy="7210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52240" cy="7226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5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03:49Z</dcterms:created>
  <dc:creator>JSHV</dc:creator>
  <dc:description/>
  <dc:language>en-US</dc:language>
  <cp:lastModifiedBy>JSHV</cp:lastModifiedBy>
  <dcterms:modified xsi:type="dcterms:W3CDTF">2011-02-16T12:42:25Z</dcterms:modified>
  <cp:revision>7</cp:revision>
  <dc:subject/>
  <dc:title>Diapositiva 1</dc:title>
</cp:coreProperties>
</file>