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Andre%20Kostelanetz%20DP%20170s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ndre%20Kostelanetz%20132s.wav" ContentType="audio/x-wav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14C-9C6E-47FC-9A65-96EEBD26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92C-0FFF-4863-8DAB-C1061B0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B81-E105-49D0-83FF-6F9CC478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CC6-44EE-46A9-82C7-D72FDA4E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24C-A045-47DF-BFFF-545C0BB2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AF1-F7A2-4D28-A6DC-4CCEE99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E16-18C9-4F1C-9DBA-110223E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A92-C58E-422E-8F10-544C38E4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A59-C4A2-4E82-8FAF-925E400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5FE-7B91-47FE-9A90-EBFF794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B23-DD26-4DDE-A413-18C2C52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894-05B9-4CA8-9A3D-D5A43BF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B958-CDCE-47C6-96E0-E31556D5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Kostelanetz%20DP%20170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ndre%20Kostelanetz%20132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07840" cy="720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349200">
            <a:off x="904680" y="549360"/>
            <a:ext cx="791496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N AGUSTÍN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 LA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MISTAD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6284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P</a:t>
            </a:r>
            <a:r>
              <a:rPr b="1" i="1" lang="es-ES" sz="2400" spc="-1" strike="noStrike">
                <a:solidFill>
                  <a:srgbClr val="009999"/>
                </a:solidFill>
                <a:latin typeface="Arial"/>
              </a:rPr>
              <a:t>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  <p:sndAc>
      <p:stSnd>
        <p:snd r:embed="rId2" name="Andre%20Kostelanetz%20DP%20170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9640" cy="720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476280"/>
            <a:ext cx="7921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sfrutaba con un montón de detal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lo que podemos llama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8680" y="5950080"/>
            <a:ext cx="8486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stos, delicias de la amistad: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5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8831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harlar y reír jun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74280" cy="72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100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restarnos atenciones unos a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360" y="0"/>
            <a:ext cx="9144000" cy="685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608800"/>
            <a:ext cx="83516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municarnos secre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y guardarlos con fide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969480" cy="721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3341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eer y comentar en común libros a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792000" cy="727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404640"/>
            <a:ext cx="84247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sistir juntos a espectác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que nos entusiasmab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y enardecí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10033200" cy="794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4149720"/>
            <a:ext cx="78487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omarnos br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u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a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sin molesta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3995640" cy="4005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918720" cy="737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476280"/>
            <a:ext cx="864216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Discutir a vec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ero sin guardarnos renc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96720" y="-27000"/>
            <a:ext cx="9904320" cy="7211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92280"/>
            <a:ext cx="4032360" cy="583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5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30040" y="-26208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58118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rganizar una fiesta a su regre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07840" cy="720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836640"/>
            <a:ext cx="388800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1080" y="5892840"/>
            <a:ext cx="698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y AGUSTÍN de Tagaste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904680" cy="7211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7280" y="58831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xpresarnos espontáne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692280"/>
            <a:ext cx="7344000" cy="518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26760" cy="7220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2205000"/>
            <a:ext cx="849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Correspond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de maner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generosa y solidari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a los gest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99"/>
                </a:solidFill>
                <a:latin typeface="Arial"/>
              </a:rPr>
              <a:t>de afec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  <p:sndAc>
      <p:stSnd>
        <p:snd r:embed="rId2" name="Andre%20Kostelanetz%20132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5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796680" cy="721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5641920"/>
            <a:ext cx="83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sforzarnos por ser posi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nos con ot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649080" cy="720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9640" y="1844640"/>
            <a:ext cx="4608720" cy="4608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76280"/>
            <a:ext cx="84978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Resumo mi pensami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n estos 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81080" y="-190440"/>
            <a:ext cx="9626760" cy="721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00000" y="3141720"/>
            <a:ext cx="7229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istad viene de amor.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28480" y="2637000"/>
            <a:ext cx="808704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die puede vivir sin amigo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789360"/>
            <a:ext cx="3132000" cy="3068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5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52360" y="-119160"/>
            <a:ext cx="9626400" cy="7220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324000" y="333360"/>
            <a:ext cx="5924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andadura del alma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el amor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1268280"/>
            <a:ext cx="3527280" cy="5113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5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8360" y="4221000"/>
            <a:ext cx="813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amistad es una fiesta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pliega las ala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-27000"/>
            <a:ext cx="367344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5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24000" y="2492280"/>
            <a:ext cx="84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y compañeros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te pueden meter en conflictos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862280" y="4581360"/>
            <a:ext cx="5419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verdadera amista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 tiene precio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gratuit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05960" cy="7213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289080"/>
            <a:ext cx="4248360" cy="5445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140440"/>
            <a:ext cx="896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unque el dato no es importa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cí al norte de África, el año 3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is padres se llamaron Patricio y Mó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1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376360" y="476280"/>
            <a:ext cx="4391280" cy="40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ÚS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un amigo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nunca falla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5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252360" y="-39600"/>
            <a:ext cx="9626400" cy="7213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8360" y="333360"/>
            <a:ext cx="8280360" cy="612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N AGUSTÍN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 LA AMISTAD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6237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PS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1440" y="2838600"/>
            <a:ext cx="158112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8000"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5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84360" y="3068640"/>
            <a:ext cx="5543640" cy="38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26080"/>
            <a:ext cx="85690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i ‘ciudadano roman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Y estaba orgulloso de se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864720" cy="721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5183280"/>
            <a:ext cx="8496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l deseo de amar lo sentía en 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o un tatua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o la marca de “pertenencia a Dios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907920"/>
            <a:ext cx="4104000" cy="395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34680" cy="720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6360" y="1268280"/>
            <a:ext cx="6335640" cy="43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676840"/>
            <a:ext cx="8353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AMAR Y SER A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era lo que más me deleitaba y ennoblec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-109440"/>
            <a:ext cx="9649080" cy="721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3611520"/>
            <a:ext cx="83516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Descubrí muy pro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a necesidad de tener amig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 me esforcé por viv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n entusiasmo y a t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a amist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333360"/>
            <a:ext cx="4537080" cy="331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24000" y="-127080"/>
            <a:ext cx="9782280" cy="722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965840"/>
            <a:ext cx="849600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En compañía de los ami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disfrutaba de la vid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orque la amistad es expansi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23520" cy="7211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140440"/>
            <a:ext cx="842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utivo de la amista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e parecía apasion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mpartir con los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5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0:41:51Z</dcterms:created>
  <dc:creator>JSHV</dc:creator>
  <dc:description/>
  <dc:language>en-US</dc:language>
  <cp:lastModifiedBy>JSHV</cp:lastModifiedBy>
  <dcterms:modified xsi:type="dcterms:W3CDTF">2012-12-15T18:40:35Z</dcterms:modified>
  <cp:revision>14</cp:revision>
  <dc:subject/>
  <dc:title>Diapositiva 1</dc:title>
</cp:coreProperties>
</file>