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Aleluya%20Bethoven%20240s.wav" ContentType="audio/x-wav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33.jpeg" ContentType="image/jpeg"/>
  <Override PartName="/ppt/media/Att32a%2075s.wav" ContentType="audio/x-wav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735-72B3-4C13-97D7-94099300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6BD-3305-4198-A0CD-18F0AB45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B78-762A-4311-B5B0-4E2D1D15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56F-C055-464A-A7ED-4F0B52E1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CF1-EDE7-43FA-A492-FA1982A2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5CF-EC4F-49D1-AA8D-FF19A32E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52B-69D1-4E82-9839-A32C3276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B42-25E3-4C0D-AD4B-978F6816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257-87BD-4F1E-AB9A-4C6EEAB9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542-4C00-475E-9AFD-66EDFEE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23B-31ED-4DCA-A875-400EF474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521-E0B8-45B1-8887-5E467AB8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01EE-D905-42C7-A054-C97CF8CDF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eluya%20Bethoven%20240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Att32a%2075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38240" y="-171360"/>
            <a:ext cx="9390240" cy="7219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620640"/>
            <a:ext cx="446400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RADA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l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ESTRO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7862760" y="5753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ff66"/>
                </a:solidFill>
                <a:latin typeface="Arial Black"/>
              </a:rPr>
              <a:t>PP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  <p:sndAc>
      <p:stSnd>
        <p:snd r:embed="rId2" name="Aleluya%20Bethoven%20240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96720" y="-127080"/>
            <a:ext cx="9721800" cy="7228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050920" y="5734080"/>
            <a:ext cx="4438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fa y Omega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541440" y="-130320"/>
            <a:ext cx="10123560" cy="723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252360" y="5802480"/>
            <a:ext cx="96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    </a:t>
            </a: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Manso y humilde de coraz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252360" y="-114480"/>
            <a:ext cx="9626400" cy="7215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908000" y="476280"/>
            <a:ext cx="47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en Pastor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7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252360" y="-111240"/>
            <a:ext cx="9615600" cy="7212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5883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 Black"/>
              </a:rPr>
              <a:t>      </a:t>
            </a:r>
            <a:r>
              <a:rPr b="1" i="1" lang="en-US" sz="3600" spc="-1" strike="noStrike">
                <a:solidFill>
                  <a:srgbClr val="0033cc"/>
                </a:solidFill>
                <a:latin typeface="Arial Black"/>
              </a:rPr>
              <a:t>Camino, Verdad y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983880" cy="7197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4360" y="58024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Vivid todos en buena armon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108000" y="-117360"/>
            <a:ext cx="9345600" cy="721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4360" y="5802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No juzguéis y no seréis juzg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181080" y="-46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181080" y="5748480"/>
            <a:ext cx="95061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Bienaventu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los limpios de cora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404640"/>
            <a:ext cx="45370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 Black"/>
              </a:rPr>
              <a:t>Dichos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 Black"/>
              </a:rPr>
              <a:t>los oj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 Black"/>
              </a:rPr>
              <a:t>que 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 Black"/>
              </a:rPr>
              <a:t>lo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 Black"/>
              </a:rPr>
              <a:t>vosotros 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782280" cy="7228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170840" y="4076640"/>
            <a:ext cx="2081160" cy="278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2028960" cy="270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205760" y="115920"/>
            <a:ext cx="204624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603520" y="907920"/>
            <a:ext cx="4046400" cy="518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700360" y="6165720"/>
            <a:ext cx="3905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ente de agua viva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7000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5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24000" y="-11916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5920"/>
            <a:ext cx="3132000" cy="4174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842400" cy="7207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58737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Estoy a la puerta y ll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5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48720" cy="7229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26920" y="476280"/>
            <a:ext cx="7534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taré con vosotros hasta el final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7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15600" cy="7211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252360" y="-95400"/>
            <a:ext cx="9601200" cy="719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900000" y="404640"/>
            <a:ext cx="7220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 soy la Resurrección y la Vida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7000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3716280"/>
            <a:ext cx="2952720" cy="2881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5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55640" y="5697360"/>
            <a:ext cx="748836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Los ojos del Señ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están fijos en sus fi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181080" y="6018120"/>
            <a:ext cx="93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Lámpara es tu palabra para mis p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5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51960" cy="7234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403280" y="404640"/>
            <a:ext cx="594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ber mirar es saber amar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7000">
    <p:zoom dir="out"/>
    <p:sndAc>
      <p:stSnd>
        <p:snd r:embed="rId2" name="Att32a%2075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40800" cy="7230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38480" cy="2990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05520" y="3867120"/>
            <a:ext cx="2238480" cy="299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56000" y="620640"/>
            <a:ext cx="4103640" cy="5761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042920" y="5950080"/>
            <a:ext cx="710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mirada es el espejo del alma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7000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5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684360" y="-100080"/>
            <a:ext cx="10328400" cy="7216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539640" y="5734080"/>
            <a:ext cx="8048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ta es mi palabra definitiva: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619200"/>
            <a:ext cx="4681800" cy="446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5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5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30080" y="5661000"/>
            <a:ext cx="7658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libertad germina en el amor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7000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5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5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547200" cy="7228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0920" y="333360"/>
            <a:ext cx="842472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 Black"/>
              </a:rPr>
              <a:t>Quien no comprende una mi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Black"/>
              </a:rPr>
              <a:t>tampoco entiende una larga explicació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5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93600" y="-171360"/>
            <a:ext cx="9345600" cy="721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755640" y="549360"/>
            <a:ext cx="74484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mirada del Maestro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640" y="3716280"/>
            <a:ext cx="3384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 I N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 Black"/>
              </a:rPr>
              <a:t>PPS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5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48720" cy="723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5064120"/>
            <a:ext cx="7993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En la plenitud de los tie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envió Dios a su Hij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nacido de una muj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595008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Nacido bajo la 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24000" y="-38160"/>
            <a:ext cx="9623520" cy="7212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332000" y="260280"/>
            <a:ext cx="57531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RES EL MÁS BELLO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 LOS HOMBRES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7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5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252360" y="-46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5589720"/>
            <a:ext cx="806436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En tus labi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de derrama la gra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5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873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Imagen visible de Di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5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252360" y="-111240"/>
            <a:ext cx="9615600" cy="7212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5:19:30Z</dcterms:created>
  <dc:creator>JSHV</dc:creator>
  <dc:description/>
  <dc:language>en-US</dc:language>
  <cp:lastModifiedBy>JSHV</cp:lastModifiedBy>
  <dcterms:modified xsi:type="dcterms:W3CDTF">2011-12-05T19:02:47Z</dcterms:modified>
  <cp:revision>30</cp:revision>
  <dc:subject/>
  <dc:title>Diapositiva 1</dc:title>
</cp:coreProperties>
</file>